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68D-2AD5-4A8A-B9E2-BDF22C2A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E97-C036-433F-9EBA-54785C1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A34-F9AE-4DFD-9FEC-FFBB5C0B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4C4-A12D-4FE4-8B39-331C01A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1E6-D417-44C3-97EE-65BEAD54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430-662F-4688-8076-E16A74F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8DA-E5F9-4E5E-BD6D-DAB542E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56-F9C2-47FB-B655-E8258A54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77C-8D75-418A-98BF-00C38985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5B8-0BE0-4AEB-BFE8-E0F2551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C45-08A1-4412-B801-C18E479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40D-AE15-445D-A3FF-AC84FF1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79FA-684D-4873-AA15-514BBC1F9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911160" y="1018080"/>
            <a:ext cx="2057400" cy="4876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2360" y="4935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gen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56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nucleo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5440" y="8380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al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1240" y="179712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genicity islands/p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48720" y="27576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acquisition and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87120" y="3718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terminal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62320" y="46782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43520" y="56386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9440" y="7632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terminal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28" t="5666" r="1639" b="398"/>
          <a:stretch/>
        </p:blipFill>
        <p:spPr>
          <a:xfrm>
            <a:off x="228600" y="774720"/>
            <a:ext cx="7391520" cy="584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1920" y="59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92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9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0240" y="214632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2876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opA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33972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0364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nm_ompepout_pv" descr=""/>
          <p:cNvPicPr/>
          <p:nvPr/>
        </p:nvPicPr>
        <p:blipFill>
          <a:blip r:embed="rId1"/>
          <a:stretch/>
        </p:blipFill>
        <p:spPr>
          <a:xfrm>
            <a:off x="1584360" y="685800"/>
            <a:ext cx="5578560" cy="5888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315200" y="220968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m_ompep_pv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578560" cy="588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364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90320" y="2286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al re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y_v_Ec_ACT+SPI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315280" cy="562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39960" y="36194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90800" y="12574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39240" y="605808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t_v_Ec.dotplot" descr=""/>
          <p:cNvPicPr/>
          <p:nvPr/>
        </p:nvPicPr>
        <p:blipFill>
          <a:blip r:embed="rId1"/>
          <a:srcRect l="0" t="0" r="0" b="10858"/>
          <a:stretch/>
        </p:blipFill>
        <p:spPr>
          <a:xfrm>
            <a:off x="1295280" y="596880"/>
            <a:ext cx="66675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5920" y="334008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45960" y="457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640" y="35812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2057400"/>
            <a:ext cx="7621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048120"/>
            <a:ext cx="83808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04812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14800"/>
            <a:ext cx="7621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870080" y="2077560"/>
            <a:ext cx="775080" cy="765000"/>
            <a:chOff x="4870080" y="2077560"/>
            <a:chExt cx="775080" cy="765000"/>
          </a:xfrm>
        </p:grpSpPr>
        <p:sp>
          <p:nvSpPr>
            <p:cNvPr id="64" name=""/>
            <p:cNvSpPr/>
            <p:nvPr/>
          </p:nvSpPr>
          <p:spPr>
            <a:xfrm flipH="1">
              <a:off x="4882680" y="2079720"/>
              <a:ext cx="760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883040" y="2077200"/>
              <a:ext cx="76104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0080" y="2079720"/>
              <a:ext cx="7750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870800" y="2077200"/>
              <a:ext cx="7740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807080" y="3068640"/>
            <a:ext cx="83808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7080" y="306864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2880" y="375444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59360" y="322092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114800"/>
            <a:ext cx="7617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225920" y="2056680"/>
            <a:ext cx="775080" cy="765000"/>
            <a:chOff x="7225920" y="2056680"/>
            <a:chExt cx="775080" cy="765000"/>
          </a:xfrm>
        </p:grpSpPr>
        <p:sp>
          <p:nvSpPr>
            <p:cNvPr id="74" name=""/>
            <p:cNvSpPr/>
            <p:nvPr/>
          </p:nvSpPr>
          <p:spPr>
            <a:xfrm flipH="1">
              <a:off x="7238520" y="2058840"/>
              <a:ext cx="760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7238880" y="2056320"/>
              <a:ext cx="76104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25920" y="2058840"/>
              <a:ext cx="7750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788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78831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226640" y="2056320"/>
              <a:ext cx="7740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028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02864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3048120"/>
            <a:ext cx="83844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048120"/>
            <a:ext cx="1526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3733920"/>
            <a:ext cx="1526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312680" y="4114800"/>
            <a:ext cx="766800" cy="761400"/>
            <a:chOff x="7312680" y="4114800"/>
            <a:chExt cx="766800" cy="761400"/>
          </a:xfrm>
        </p:grpSpPr>
        <p:sp>
          <p:nvSpPr>
            <p:cNvPr id="83" name=""/>
            <p:cNvSpPr/>
            <p:nvPr/>
          </p:nvSpPr>
          <p:spPr>
            <a:xfrm flipH="1">
              <a:off x="7315200" y="41148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2165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2165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7312680" y="4114440"/>
              <a:ext cx="766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19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19557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5560" y="41148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2165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2165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312680" y="4114440"/>
              <a:ext cx="766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19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19557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7772040" y="32004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35268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82360" y="1142640"/>
            <a:ext cx="912960" cy="1676520"/>
            <a:chOff x="3582360" y="1142640"/>
            <a:chExt cx="912960" cy="1676520"/>
          </a:xfrm>
        </p:grpSpPr>
        <p:sp>
          <p:nvSpPr>
            <p:cNvPr id="90" name=""/>
            <p:cNvSpPr/>
            <p:nvPr/>
          </p:nvSpPr>
          <p:spPr>
            <a:xfrm>
              <a:off x="3657600" y="205704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582360" y="1142640"/>
              <a:ext cx="912960" cy="1218600"/>
              <a:chOff x="3582360" y="1142640"/>
              <a:chExt cx="912960" cy="1218600"/>
            </a:xfrm>
          </p:grpSpPr>
          <p:sp>
            <p:nvSpPr>
              <p:cNvPr id="92" name=""/>
              <p:cNvSpPr/>
              <p:nvPr/>
            </p:nvSpPr>
            <p:spPr>
              <a:xfrm flipH="1" flipV="1">
                <a:off x="3733920" y="220932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3582360" y="1142280"/>
                <a:ext cx="912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583440" y="1142640"/>
              <a:ext cx="911520" cy="1218600"/>
              <a:chOff x="3583440" y="1142640"/>
              <a:chExt cx="911520" cy="121860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4267800" y="220932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583440" y="1142280"/>
                <a:ext cx="9115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6019920" y="4114800"/>
            <a:ext cx="912960" cy="1675800"/>
            <a:chOff x="6019920" y="4114800"/>
            <a:chExt cx="912960" cy="1675800"/>
          </a:xfrm>
        </p:grpSpPr>
        <p:sp>
          <p:nvSpPr>
            <p:cNvPr id="98" name=""/>
            <p:cNvSpPr/>
            <p:nvPr/>
          </p:nvSpPr>
          <p:spPr>
            <a:xfrm>
              <a:off x="6095880" y="4114800"/>
              <a:ext cx="762120" cy="761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020640" y="4572000"/>
              <a:ext cx="911520" cy="1218600"/>
              <a:chOff x="6020640" y="4572000"/>
              <a:chExt cx="911520" cy="121860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6171840" y="464796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020640" y="4572000"/>
                <a:ext cx="9115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019920" y="4572000"/>
              <a:ext cx="912960" cy="1218600"/>
              <a:chOff x="6019920" y="4572000"/>
              <a:chExt cx="912960" cy="121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705000" y="4647960"/>
                <a:ext cx="76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920" y="4572000"/>
                <a:ext cx="912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324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32493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824400" y="2170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m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42908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m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1440" y="3276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7200" y="144792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geno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5480" y="495288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geno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1480" y="152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Chromosomal rearrangement by reciprocal re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t_v_Ec.dotplot" descr=""/>
          <p:cNvPicPr/>
          <p:nvPr/>
        </p:nvPicPr>
        <p:blipFill>
          <a:blip r:embed="rId1"/>
          <a:srcRect l="0" t="0" r="0" b="10858"/>
          <a:stretch/>
        </p:blipFill>
        <p:spPr>
          <a:xfrm>
            <a:off x="1295280" y="596880"/>
            <a:ext cx="6667560" cy="5943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15920" y="334008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ma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5960" y="457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35812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38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3733920" y="2057400"/>
          <a:ext cx="5105160" cy="427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057400"/>
                    <a:ext cx="51051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269" t="7227" r="1284" b="513"/>
          <a:stretch/>
        </p:blipFill>
        <p:spPr>
          <a:xfrm>
            <a:off x="252360" y="693720"/>
            <a:ext cx="8663040" cy="6016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92960" y="1522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ureus Mu50 vs. N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3200" y="22860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genicity islands/proph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840" y="762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1480" y="76212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ant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8520" y="76212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IV pi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PI7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848360" cy="527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5400" y="6858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NA-P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86640" y="914400"/>
            <a:ext cx="31428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838080"/>
            <a:ext cx="141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14480" y="16002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47240" y="54990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19640" y="3049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acquisition and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3674etcvent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6980040" cy="5378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40320" y="22096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. pes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9960" y="45720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. enterocoli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72160" y="144792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ct tox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2:49:48Z</dcterms:created>
  <dc:creator>The Sanger Centre</dc:creator>
  <dc:description/>
  <dc:language>en-US</dc:language>
  <cp:lastModifiedBy>The Sanger Centre</cp:lastModifiedBy>
  <dcterms:modified xsi:type="dcterms:W3CDTF">2002-09-11T15:30:16Z</dcterms:modified>
  <cp:revision>6</cp:revision>
  <dc:subject/>
  <dc:title>PowerPoint Presentation</dc:title>
</cp:coreProperties>
</file>