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2EEF-F8AD-4D63-8DE2-DA652A73E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3477-F76A-4FED-9E5D-253D80CA9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11D5-003E-47F6-9457-8FB5EAC6D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697D-34A6-4D52-8686-AE29D6A79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8000-1464-4F5C-81A6-84623C3F6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B1BD-0BC8-4046-ACE0-F0EE3E146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3B71-3DA9-4D05-A3C2-74AE29825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7000-9241-43D9-93A4-65414FFF2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8D31-AD1B-438C-8A0B-01D4BD4AC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A359-D482-4000-89A5-31EDFA1D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62CE-BAC5-46E8-9351-F78B0324B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1396-A929-4637-9118-66B79444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9D77E-01BE-4ABA-BF25-9E3AA404BF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911160" y="1018080"/>
            <a:ext cx="2057400" cy="4876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525252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72360" y="493560"/>
            <a:ext cx="19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ole geno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6056280"/>
            <a:ext cx="22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nucleot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25440" y="838080"/>
            <a:ext cx="431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romosomal rearrang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1240" y="1797120"/>
            <a:ext cx="456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thogenicity islands/proph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48720" y="2757600"/>
            <a:ext cx="36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 acquisition and lo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87120" y="3718080"/>
            <a:ext cx="29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terminal e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062320" y="4678200"/>
            <a:ext cx="20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seudoge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943520" y="5638680"/>
            <a:ext cx="22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ase var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899440" y="76320"/>
            <a:ext cx="29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terminal e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328" t="5666" r="1639" b="398"/>
          <a:stretch/>
        </p:blipFill>
        <p:spPr>
          <a:xfrm>
            <a:off x="228600" y="774720"/>
            <a:ext cx="7391520" cy="58402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7621920" y="5943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21920" y="1066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21920" y="35053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80240" y="2146320"/>
            <a:ext cx="1235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sseria meningitidi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serogrou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128760" y="380880"/>
            <a:ext cx="20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seudoge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sopA" descr=""/>
          <p:cNvPicPr/>
          <p:nvPr/>
        </p:nvPicPr>
        <p:blipFill>
          <a:blip r:embed="rId1"/>
          <a:stretch/>
        </p:blipFill>
        <p:spPr>
          <a:xfrm>
            <a:off x="152280" y="1300320"/>
            <a:ext cx="8772480" cy="46256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339720" y="990720"/>
            <a:ext cx="282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creted effector protein (type-II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203640" y="152280"/>
            <a:ext cx="22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ase var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nm_ompepout_pv" descr=""/>
          <p:cNvPicPr/>
          <p:nvPr/>
        </p:nvPicPr>
        <p:blipFill>
          <a:blip r:embed="rId1"/>
          <a:stretch/>
        </p:blipFill>
        <p:spPr>
          <a:xfrm>
            <a:off x="1584360" y="685800"/>
            <a:ext cx="5578560" cy="58881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7315200" y="2209680"/>
            <a:ext cx="1311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ter membrane peptid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m_ompep_pv" descr=""/>
          <p:cNvPicPr/>
          <p:nvPr/>
        </p:nvPicPr>
        <p:blipFill>
          <a:blip r:embed="rId1"/>
          <a:stretch/>
        </p:blipFill>
        <p:spPr>
          <a:xfrm>
            <a:off x="1828800" y="609480"/>
            <a:ext cx="5578560" cy="58881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203640" y="152280"/>
            <a:ext cx="22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ase var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90320" y="228600"/>
            <a:ext cx="431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romosomal rearrang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STy_v_Ec_ACT+SPI" descr=""/>
          <p:cNvPicPr/>
          <p:nvPr/>
        </p:nvPicPr>
        <p:blipFill>
          <a:blip r:embed="rId1"/>
          <a:stretch/>
        </p:blipFill>
        <p:spPr>
          <a:xfrm>
            <a:off x="281160" y="914400"/>
            <a:ext cx="8315280" cy="56228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8139960" y="3619440"/>
            <a:ext cx="855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N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290800" y="1257480"/>
            <a:ext cx="77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. typh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139240" y="6058080"/>
            <a:ext cx="85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. co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St_v_Ec.dotplot" descr=""/>
          <p:cNvPicPr/>
          <p:nvPr/>
        </p:nvPicPr>
        <p:blipFill>
          <a:blip r:embed="rId1"/>
          <a:srcRect l="0" t="0" r="0" b="10858"/>
          <a:stretch/>
        </p:blipFill>
        <p:spPr>
          <a:xfrm>
            <a:off x="1295280" y="596880"/>
            <a:ext cx="6667560" cy="59436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315920" y="3340080"/>
            <a:ext cx="12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NA mat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945960" y="457200"/>
            <a:ext cx="77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. typh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3640" y="3581280"/>
            <a:ext cx="85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. co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438280" y="2057400"/>
            <a:ext cx="762120" cy="7621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362320" y="3048120"/>
            <a:ext cx="838080" cy="838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362320" y="3048120"/>
            <a:ext cx="83808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438280" y="4114800"/>
            <a:ext cx="762120" cy="7621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4870080" y="2077560"/>
            <a:ext cx="775080" cy="765000"/>
            <a:chOff x="4870080" y="2077560"/>
            <a:chExt cx="775080" cy="765000"/>
          </a:xfrm>
        </p:grpSpPr>
        <p:sp>
          <p:nvSpPr>
            <p:cNvPr id="64" name=""/>
            <p:cNvSpPr/>
            <p:nvPr/>
          </p:nvSpPr>
          <p:spPr>
            <a:xfrm flipH="1">
              <a:off x="4882680" y="2079720"/>
              <a:ext cx="76068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378831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3788318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flipV="1">
              <a:off x="4883040" y="2077200"/>
              <a:ext cx="761040" cy="76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702864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7028648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0080" y="2079720"/>
              <a:ext cx="77508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378831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3788318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4870800" y="2077200"/>
              <a:ext cx="774000" cy="76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702864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7028648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4807080" y="3068640"/>
            <a:ext cx="838080" cy="838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7080" y="3068640"/>
            <a:ext cx="152280" cy="152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92880" y="3754440"/>
            <a:ext cx="152280" cy="152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4959360" y="3220920"/>
            <a:ext cx="53352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76920" y="4114800"/>
            <a:ext cx="761760" cy="7621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7225920" y="2056680"/>
            <a:ext cx="775080" cy="765000"/>
            <a:chOff x="7225920" y="2056680"/>
            <a:chExt cx="775080" cy="765000"/>
          </a:xfrm>
        </p:grpSpPr>
        <p:sp>
          <p:nvSpPr>
            <p:cNvPr id="74" name=""/>
            <p:cNvSpPr/>
            <p:nvPr/>
          </p:nvSpPr>
          <p:spPr>
            <a:xfrm flipH="1">
              <a:off x="7238520" y="2058840"/>
              <a:ext cx="76068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378831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3788318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flipV="1">
              <a:off x="7238880" y="2056320"/>
              <a:ext cx="761040" cy="76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702864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7028648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225920" y="2058840"/>
              <a:ext cx="77508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378831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3788318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7226640" y="2056320"/>
              <a:ext cx="774000" cy="76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702864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7028648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7238880" y="3048120"/>
            <a:ext cx="838440" cy="838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238880" y="3048120"/>
            <a:ext cx="152640" cy="152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924680" y="3733920"/>
            <a:ext cx="152640" cy="152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7391160" y="3581280"/>
            <a:ext cx="15228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7312680" y="4114800"/>
            <a:ext cx="766800" cy="761400"/>
            <a:chOff x="7312680" y="4114800"/>
            <a:chExt cx="766800" cy="761400"/>
          </a:xfrm>
        </p:grpSpPr>
        <p:sp>
          <p:nvSpPr>
            <p:cNvPr id="83" name=""/>
            <p:cNvSpPr/>
            <p:nvPr/>
          </p:nvSpPr>
          <p:spPr>
            <a:xfrm flipH="1">
              <a:off x="7315200" y="4114800"/>
              <a:ext cx="76104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721650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7216501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 flipV="1">
              <a:off x="7312680" y="4114440"/>
              <a:ext cx="76680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36195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3619557"/>
                </a:path>
              </a:pathLst>
            </a:cu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315560" y="4114800"/>
              <a:ext cx="76104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721650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7216501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7312680" y="4114440"/>
              <a:ext cx="76680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36195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3619557"/>
                </a:path>
              </a:pathLst>
            </a:cu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 flipH="1">
            <a:off x="7772040" y="3200400"/>
            <a:ext cx="15228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43800" y="3352680"/>
            <a:ext cx="228600" cy="2286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582360" y="1142640"/>
            <a:ext cx="912960" cy="1676520"/>
            <a:chOff x="3582360" y="1142640"/>
            <a:chExt cx="912960" cy="1676520"/>
          </a:xfrm>
        </p:grpSpPr>
        <p:sp>
          <p:nvSpPr>
            <p:cNvPr id="90" name=""/>
            <p:cNvSpPr/>
            <p:nvPr/>
          </p:nvSpPr>
          <p:spPr>
            <a:xfrm>
              <a:off x="3657600" y="2057040"/>
              <a:ext cx="762120" cy="7621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3582360" y="1142640"/>
              <a:ext cx="912960" cy="1218600"/>
              <a:chOff x="3582360" y="1142640"/>
              <a:chExt cx="912960" cy="1218600"/>
            </a:xfrm>
          </p:grpSpPr>
          <p:sp>
            <p:nvSpPr>
              <p:cNvPr id="92" name=""/>
              <p:cNvSpPr/>
              <p:nvPr/>
            </p:nvSpPr>
            <p:spPr>
              <a:xfrm flipH="1" flipV="1">
                <a:off x="3733920" y="2209320"/>
                <a:ext cx="7632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flipV="1">
                <a:off x="3582360" y="1142280"/>
                <a:ext cx="912960" cy="121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232493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232493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3583440" y="1142640"/>
              <a:ext cx="911520" cy="1218600"/>
              <a:chOff x="3583440" y="1142640"/>
              <a:chExt cx="911520" cy="1218600"/>
            </a:xfrm>
          </p:grpSpPr>
          <p:sp>
            <p:nvSpPr>
              <p:cNvPr id="95" name=""/>
              <p:cNvSpPr/>
              <p:nvPr/>
            </p:nvSpPr>
            <p:spPr>
              <a:xfrm flipV="1">
                <a:off x="4267800" y="2209320"/>
                <a:ext cx="7596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V="1">
                <a:off x="3583440" y="1142280"/>
                <a:ext cx="911520" cy="121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232493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232493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" name=""/>
          <p:cNvGrpSpPr/>
          <p:nvPr/>
        </p:nvGrpSpPr>
        <p:grpSpPr>
          <a:xfrm>
            <a:off x="6019920" y="4114800"/>
            <a:ext cx="912960" cy="1675800"/>
            <a:chOff x="6019920" y="4114800"/>
            <a:chExt cx="912960" cy="1675800"/>
          </a:xfrm>
        </p:grpSpPr>
        <p:sp>
          <p:nvSpPr>
            <p:cNvPr id="98" name=""/>
            <p:cNvSpPr/>
            <p:nvPr/>
          </p:nvSpPr>
          <p:spPr>
            <a:xfrm>
              <a:off x="6095880" y="4114800"/>
              <a:ext cx="762120" cy="7617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6020640" y="4572000"/>
              <a:ext cx="911520" cy="1218600"/>
              <a:chOff x="6020640" y="4572000"/>
              <a:chExt cx="911520" cy="1218600"/>
            </a:xfrm>
          </p:grpSpPr>
          <p:sp>
            <p:nvSpPr>
              <p:cNvPr id="100" name=""/>
              <p:cNvSpPr/>
              <p:nvPr/>
            </p:nvSpPr>
            <p:spPr>
              <a:xfrm flipH="1">
                <a:off x="6171840" y="4647960"/>
                <a:ext cx="7596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6020640" y="4572000"/>
                <a:ext cx="911520" cy="121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232493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232493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6019920" y="4572000"/>
              <a:ext cx="912960" cy="1218600"/>
              <a:chOff x="6019920" y="4572000"/>
              <a:chExt cx="912960" cy="1218600"/>
            </a:xfrm>
          </p:grpSpPr>
          <p:sp>
            <p:nvSpPr>
              <p:cNvPr id="103" name=""/>
              <p:cNvSpPr/>
              <p:nvPr/>
            </p:nvSpPr>
            <p:spPr>
              <a:xfrm>
                <a:off x="6705000" y="4647960"/>
                <a:ext cx="7632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019920" y="4572000"/>
                <a:ext cx="912960" cy="121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232493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232493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"/>
          <p:cNvSpPr/>
          <p:nvPr/>
        </p:nvSpPr>
        <p:spPr>
          <a:xfrm>
            <a:off x="824400" y="217008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ome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40240" y="429084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om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91440" y="327672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427200" y="1447920"/>
            <a:ext cx="1301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a-genom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comb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76720" y="2438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95680" y="2438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15000" y="4495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934320" y="4495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865480" y="4952880"/>
            <a:ext cx="1301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a-genom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comb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1480" y="152280"/>
            <a:ext cx="66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ff"/>
                </a:solidFill>
                <a:latin typeface="Arial"/>
              </a:rPr>
              <a:t>Chromosomal rearrangement by reciprocal recomb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St_v_Ec.dotplot" descr=""/>
          <p:cNvPicPr/>
          <p:nvPr/>
        </p:nvPicPr>
        <p:blipFill>
          <a:blip r:embed="rId1"/>
          <a:srcRect l="0" t="0" r="0" b="10858"/>
          <a:stretch/>
        </p:blipFill>
        <p:spPr>
          <a:xfrm>
            <a:off x="1295280" y="596880"/>
            <a:ext cx="6667560" cy="59436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315920" y="3340080"/>
            <a:ext cx="12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NA mat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45960" y="457200"/>
            <a:ext cx="77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. typh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93640" y="3581280"/>
            <a:ext cx="85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. co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4419360" cy="386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0" name=""/>
          <p:cNvGraphicFramePr/>
          <p:nvPr/>
        </p:nvGraphicFramePr>
        <p:xfrm>
          <a:off x="3733920" y="2057400"/>
          <a:ext cx="5105160" cy="4272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33920" y="2057400"/>
                    <a:ext cx="5105160" cy="427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rcRect l="269" t="7227" r="1284" b="513"/>
          <a:stretch/>
        </p:blipFill>
        <p:spPr>
          <a:xfrm>
            <a:off x="252360" y="693720"/>
            <a:ext cx="8663040" cy="60166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892960" y="152280"/>
            <a:ext cx="305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aureus Mu50 vs. N3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293200" y="228600"/>
            <a:ext cx="456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thogenicity islands/proph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4840" y="762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171480" y="76212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 anti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738520" y="762120"/>
            <a:ext cx="115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ype IV pil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SPI7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7848360" cy="52707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7925400" y="685800"/>
            <a:ext cx="98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RNA-P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586640" y="914400"/>
            <a:ext cx="314280" cy="892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91520" y="838080"/>
            <a:ext cx="14112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214480" y="1600200"/>
            <a:ext cx="77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. typh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247240" y="5499000"/>
            <a:ext cx="66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. co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519640" y="304920"/>
            <a:ext cx="36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 acquisition and lo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3674etcvent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6980040" cy="53784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7240320" y="2209680"/>
            <a:ext cx="9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Y. pest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239960" y="4572000"/>
            <a:ext cx="162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Y. enterocolit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72160" y="1447920"/>
            <a:ext cx="130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sect tox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1T12:49:48Z</dcterms:created>
  <dc:creator>The Sanger Centre</dc:creator>
  <dc:description/>
  <dc:language>en-US</dc:language>
  <cp:lastModifiedBy>The Sanger Centre</cp:lastModifiedBy>
  <dcterms:modified xsi:type="dcterms:W3CDTF">2002-09-11T15:30:16Z</dcterms:modified>
  <cp:revision>6</cp:revision>
  <dc:subject/>
  <dc:title>PowerPoint Presentation</dc:title>
</cp:coreProperties>
</file>