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F00-9DC8-4A04-BF39-198AC010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70C-B630-48BC-8558-67F2388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9BC-2809-4FBD-A859-1EEFB2BE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1FF-76E3-4466-9B58-15F85E25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24A7-4BDA-4423-B5E6-95F8DAF8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62B-71B7-417C-B0F3-3529A37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18BD-5FDF-49B0-B723-EF3A3536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6780-E2A9-4CBA-85D5-8B24B04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B581-9852-48DF-9DE3-3D4593F5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5EE-401D-4ABA-9368-970860E8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787-A5EB-4438-A19E-AA53A41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FE7-AE25-48AA-A773-34CB5C8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C0E1-55CE-452C-908F-6920C9C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35C-F5FB-4BB4-9D5C-78D610D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37CA-3F46-4CF0-8F2E-1D98EDB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28F5-5F6D-409B-95FD-FA44D99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077B-0915-4929-AE47-7F43A663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2C1-83BA-4E0A-852E-E839985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B7F-F5C6-411C-A36C-13208F7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139-9BC1-4C48-92E1-A1B54CF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2D5-2AD1-4182-A714-F1A143C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FBF-4640-4488-9F58-CA65B02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F0F-9F1D-4F78-A261-0A4A200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7CD-DE79-402C-9977-AC5F9CD9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707-8B17-41E7-AA91-BCB38D0837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2475-CF91-4E66-9EEA-1008AD5E17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3407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rging of gene predi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9044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pplica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86900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ebastian R. Spieg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Wellcome Trust Sanger Instit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26 September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963880" cy="244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52520" y="5234040"/>
            <a:ext cx="43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Software development in </a:t>
            </a:r>
            <a:r>
              <a:rPr b="1" i="1" lang="de-DE" sz="2100" spc="-1" strike="noStrike">
                <a:solidFill>
                  <a:srgbClr val="000000"/>
                </a:solidFill>
                <a:latin typeface="Verdana"/>
              </a:rPr>
              <a:t>real lif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0" y="3000240"/>
            <a:ext cx="2446200" cy="85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63080" y="2355840"/>
            <a:ext cx="3234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user wante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75520" y="2355840"/>
            <a:ext cx="367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How the user described it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62320" y="2914560"/>
            <a:ext cx="26179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2760" y="2355840"/>
            <a:ext cx="4728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How the programer understood it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28840" y="2954160"/>
            <a:ext cx="2686320" cy="9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63080" y="2355840"/>
            <a:ext cx="563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programer intended to develop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1360" y="3068640"/>
            <a:ext cx="2321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6040" y="2355840"/>
            <a:ext cx="57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programer developed in the en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519360" y="2874960"/>
            <a:ext cx="21034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9400" y="2355840"/>
            <a:ext cx="379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the user had needed 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7400" y="2914560"/>
            <a:ext cx="21492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5280" y="1916280"/>
            <a:ext cx="4870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deal procedure: </a:t>
            </a:r>
            <a:r>
              <a:rPr b="1" i="1" lang="de-DE" sz="2100" spc="-1" strike="noStrike">
                <a:solidFill>
                  <a:srgbClr val="000000"/>
                </a:solidFill>
                <a:latin typeface="Verdana"/>
              </a:rPr>
              <a:t>The Waterfall Mo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39146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7000" y="1989000"/>
            <a:ext cx="2023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Verdana"/>
              </a:rPr>
              <a:t>Circular Mo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31308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pplied to </a:t>
            </a:r>
            <a:r>
              <a:rPr b="0" i="1" lang="en-GB" sz="19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nalysi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quirements analy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ecificatio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erging ru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ML – class diagram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ML – sequence diagr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seudo code for relevant algorithms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mplementation &amp; Testing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Java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Usage of BioJava libra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sting on Dictyostelium Chromosome 6 and Plasmodium Chromosome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se &amp; maintena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 want to talk abou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pplicatio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use 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deta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7080" y="201600"/>
            <a:ext cx="8928000" cy="65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000" y="531720"/>
            <a:ext cx="9018720" cy="60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 The application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GFMer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o use i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he “black-box” wor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1. How to use 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 from the command lin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01600" y="2471760"/>
            <a:ext cx="710100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03772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quirements on Input da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1 sequence per EMBL fi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ene model (annot./pred.)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cDNA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RNA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BLASTX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BLASTCDS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qualifier for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 stating predi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tein ID in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BLASTCDS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featu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76360" y="4797360"/>
            <a:ext cx="6767640" cy="36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1. How to use 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024360" cy="358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21000" y="5373720"/>
            <a:ext cx="621972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782640"/>
            <a:ext cx="8001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 The “black-box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Analysis level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DNA splice site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DNA overlap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LASTX overlap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tal exon length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e model length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nditional probability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1. cDNA splice site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03160" y="2500200"/>
            <a:ext cx="76215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2. cDNA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38240" y="2136600"/>
            <a:ext cx="82598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3. BLASTX overlap analy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00320" y="4094280"/>
            <a:ext cx="4446720" cy="190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00320" y="1933560"/>
            <a:ext cx="4446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3.2.4. Total exon length analysis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3.2.5. Gene model length analysi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08200" y="2933640"/>
            <a:ext cx="5716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Proj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 descript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rging gene predi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2.6. ACP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P = Average Conditional Probabi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ining set used for calc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32800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47640" y="5013360"/>
            <a:ext cx="5473800" cy="6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marL="230040" indent="-23004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PI = Application Programming Interface (AP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et of method definitions for the communication between different software piec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thod of achieving abstraction, between lower-level and higher-level softw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0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44600" indent="-21348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urpose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-1936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t of commonly-used functions provided (p.e. to draw windows/icons on scree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639360" indent="-1936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programming from the scratch necess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Verdana"/>
              </a:rPr>
              <a:t>GFMerge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P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2120760"/>
            <a:ext cx="525780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0" y="1866960"/>
            <a:ext cx="4724280" cy="4203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.3. Some detai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gh scoring pat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305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urther informatio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0"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-283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JavaDoc API for GFMer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0">
              <a:spcBef>
                <a:spcPts val="42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90040" indent="-283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Documentation of GFMer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s for your atten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1. Project descrip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Development of a tool which combines </a:t>
            </a:r>
            <a:r>
              <a:rPr b="0" i="1" lang="en-GB" sz="2100" spc="-1" strike="noStrike">
                <a:solidFill>
                  <a:srgbClr val="000000"/>
                </a:solidFill>
                <a:latin typeface="Verdana"/>
              </a:rPr>
              <a:t>gene predic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of various gene predictors such 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HMMGen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Gene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GeneFind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sing similarity evi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to a sequence (cDN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to a protein (BLASTX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560" y="348840"/>
            <a:ext cx="8002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2. Merging gene predi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80920" y="2614680"/>
            <a:ext cx="737244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4560" y="349200"/>
            <a:ext cx="8002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Software develop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6640" y="1752480"/>
            <a:ext cx="8002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Software development in </a:t>
            </a: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real lif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Ideal procedure: </a:t>
            </a: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The Waterfall Mod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7</cp:lastModifiedBy>
  <dcterms:modified xsi:type="dcterms:W3CDTF">2003-09-26T10:36:47Z</dcterms:modified>
  <cp:revision>62</cp:revision>
  <dc:subject/>
  <dc:title>Merging of gene predictions</dc:title>
</cp:coreProperties>
</file>