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258840"/>
            <a:ext cx="79995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016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258840"/>
            <a:ext cx="79995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258840"/>
            <a:ext cx="79995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564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096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564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258840"/>
            <a:ext cx="79995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258840"/>
            <a:ext cx="79995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258840"/>
            <a:ext cx="79995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258840"/>
            <a:ext cx="79995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74200" y="258840"/>
            <a:ext cx="79995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258840"/>
            <a:ext cx="79995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258840"/>
            <a:ext cx="79995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258840"/>
            <a:ext cx="79995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24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258840"/>
            <a:ext cx="79995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258840"/>
            <a:ext cx="79995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6280" y="398016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258840"/>
            <a:ext cx="79995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24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4200" y="258840"/>
            <a:ext cx="79995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7564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6628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7096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7564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258840"/>
            <a:ext cx="79995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258840"/>
            <a:ext cx="79995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258840"/>
            <a:ext cx="79995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258840"/>
            <a:ext cx="79995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258840"/>
            <a:ext cx="79995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258840"/>
            <a:ext cx="79995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258840"/>
            <a:ext cx="79995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09480" y="1566720"/>
            <a:ext cx="7958160" cy="109800"/>
            <a:chOff x="609480" y="1566720"/>
            <a:chExt cx="7958160" cy="109800"/>
          </a:xfrm>
        </p:grpSpPr>
        <p:sp>
          <p:nvSpPr>
            <p:cNvPr id="1" name=""/>
            <p:cNvSpPr/>
            <p:nvPr/>
          </p:nvSpPr>
          <p:spPr>
            <a:xfrm>
              <a:off x="609480" y="1566720"/>
              <a:ext cx="4656240" cy="109800"/>
            </a:xfrm>
            <a:custGeom>
              <a:avLst/>
              <a:gdLst/>
              <a:ahLst/>
              <a:rect l="l" t="t" r="r" b="b"/>
              <a:pathLst>
                <a:path w="12933" h="306">
                  <a:moveTo>
                    <a:pt x="0" y="0"/>
                  </a:moveTo>
                  <a:lnTo>
                    <a:pt x="12932" y="0"/>
                  </a:lnTo>
                  <a:lnTo>
                    <a:pt x="12932" y="305"/>
                  </a:lnTo>
                  <a:lnTo>
                    <a:pt x="0" y="305"/>
                  </a:lnTo>
                  <a:lnTo>
                    <a:pt x="0" y="0"/>
                  </a:lnTo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09480" y="1566720"/>
              <a:ext cx="7958160" cy="18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09480" y="6172200"/>
            <a:ext cx="7925040" cy="144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258840"/>
            <a:ext cx="79995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436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-3934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2320" indent="-3985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2320" indent="-39852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2320" indent="-39852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85800" y="2394000"/>
            <a:ext cx="7772400" cy="109440"/>
            <a:chOff x="685800" y="2394000"/>
            <a:chExt cx="7772400" cy="109440"/>
          </a:xfrm>
        </p:grpSpPr>
        <p:sp>
          <p:nvSpPr>
            <p:cNvPr id="47" name=""/>
            <p:cNvSpPr/>
            <p:nvPr/>
          </p:nvSpPr>
          <p:spPr>
            <a:xfrm>
              <a:off x="685800" y="2394000"/>
              <a:ext cx="4803840" cy="109440"/>
            </a:xfrm>
            <a:custGeom>
              <a:avLst/>
              <a:gdLst/>
              <a:ahLst/>
              <a:rect l="l" t="t" r="r" b="b"/>
              <a:pathLst>
                <a:path w="13344" h="305">
                  <a:moveTo>
                    <a:pt x="0" y="0"/>
                  </a:moveTo>
                  <a:lnTo>
                    <a:pt x="13343" y="0"/>
                  </a:lnTo>
                  <a:lnTo>
                    <a:pt x="13343" y="304"/>
                  </a:lnTo>
                  <a:lnTo>
                    <a:pt x="0" y="304"/>
                  </a:lnTo>
                  <a:lnTo>
                    <a:pt x="0" y="0"/>
                  </a:lnTo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" y="2394000"/>
              <a:ext cx="7772400" cy="14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436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-3934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2320" indent="-3985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2320" indent="-39852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2320" indent="-39852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</a:rPr>
              <a:t>Merging of gene predictio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msgothic"/>
              </a:rPr>
              <a:t>The application </a:t>
            </a:r>
            <a:r>
              <a:rPr b="0" i="1" lang="en-GB" sz="2800" spc="-1" strike="noStrike">
                <a:solidFill>
                  <a:srgbClr val="000000"/>
                </a:solidFill>
                <a:latin typeface="Verdana"/>
                <a:ea typeface="msgothic"/>
              </a:rPr>
              <a:t>GFMer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2.1. Analys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Requirements - part 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 u="sng">
                <a:solidFill>
                  <a:srgbClr val="000000"/>
                </a:solidFill>
                <a:uFillTx/>
                <a:latin typeface="Verdana"/>
              </a:rPr>
              <a:t>Undefined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 number of gene predictions.                       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Predictions from different gene structure prediction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Verdana"/>
              </a:rPr>
              <a:t>programs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 on the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Verdana"/>
              </a:rPr>
              <a:t>same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 sequence.                         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Merging into one gene prediction containing only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Verdana"/>
              </a:rPr>
              <a:t>high quality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 gene model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2.1. Analys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Requirements - part I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 u="sng">
                <a:solidFill>
                  <a:srgbClr val="000000"/>
                </a:solidFill>
                <a:uFillTx/>
                <a:latin typeface="Verdana"/>
              </a:rPr>
              <a:t>Simple rules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 as base of merging process.                  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Gene model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Verdana"/>
              </a:rPr>
              <a:t>scores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 of prediction should be used for comparison.                                                  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Scores from different prediction sources should be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Verdana"/>
              </a:rPr>
              <a:t>normalized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2.1. Analys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Requirements - part II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 u="sng">
                <a:solidFill>
                  <a:srgbClr val="000000"/>
                </a:solidFill>
                <a:uFillTx/>
                <a:latin typeface="Verdana"/>
              </a:rPr>
              <a:t>Scoring system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 should be developed which combines evidences data and prediction scores to a total score of a gene model.                                               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The program should be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Verdana"/>
              </a:rPr>
              <a:t>modular and extendable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2.1. Analys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Merging rules – part 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1. Pick gene model with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Verdana"/>
              </a:rPr>
              <a:t>highest sequence similarity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 (cDNA). If several gene models have the same similarity, keep all of them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2. Pick gene model with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Verdana"/>
              </a:rPr>
              <a:t>highest protein similarity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 (BLAST). If several gene models have the same similarity, keep all of them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3. Several identical predictions take precedence over a single non-identical gene model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2.1. Analysi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Merging rules – part I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4. Pick rather long gene models than shorter gen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models not to lose any coding informatio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5. Use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Verdana"/>
              </a:rPr>
              <a:t>total exon length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 (gm length including only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exons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6. Use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Verdana"/>
              </a:rPr>
              <a:t>gene model length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 (gm length including exon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and introns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7. Use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Verdana"/>
              </a:rPr>
              <a:t>average conditional probability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 of prediction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program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2.1. Analys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Merging rules – part II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5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5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7. Use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Verdana"/>
              </a:rPr>
              <a:t>percentage coverage 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of similarity data to sco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5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the overlap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5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5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8.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Verdana"/>
              </a:rPr>
              <a:t>Accumulate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 all BLAST hits from the same protein to a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5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gene model, use the sum for scoring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5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5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9. If two or more predictions overlap, take the one with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5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Verdana"/>
              </a:rPr>
              <a:t>highest score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5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0920" y="782640"/>
            <a:ext cx="800100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2.2. </a:t>
            </a:r>
            <a:r>
              <a:rPr b="0" lang="en-GB" sz="3400" spc="-1" strike="noStrike">
                <a:solidFill>
                  <a:srgbClr val="000000"/>
                </a:solidFill>
                <a:latin typeface="Verdana"/>
              </a:rPr>
              <a:t>Desig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UML – class diagrams  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UML – sequence diagrams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Pseudo code for relevant algorithm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7080" y="201600"/>
            <a:ext cx="8928000" cy="654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4000" y="531720"/>
            <a:ext cx="9018720" cy="601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0920" y="782640"/>
            <a:ext cx="800100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2.3. Implemen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Language: Java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Program  : GFMerge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4366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Part of analysis pipeline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4366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run seperatel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What I want to talk about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Software develop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The application GFMerg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How to use i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How it wor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0920" y="782640"/>
            <a:ext cx="800100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2.4. Testing and debugg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Logg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562120" y="2249640"/>
            <a:ext cx="3611520" cy="36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0920" y="782640"/>
            <a:ext cx="800100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2.4. Testing and debugg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Test data: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4366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Dictyostelium Chromosome 6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4366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Plasmodium Chromosome 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3. The application </a:t>
            </a:r>
            <a:r>
              <a:rPr b="0" i="1" lang="en-GB" sz="3800" spc="-1" strike="noStrike">
                <a:solidFill>
                  <a:srgbClr val="000000"/>
                </a:solidFill>
                <a:latin typeface="Verdana"/>
              </a:rPr>
              <a:t>GFMerg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-3934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How to use it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-3934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The “black-box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0920" y="782640"/>
            <a:ext cx="800100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3.1. How to use i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Run from the command lin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101600" y="2471760"/>
            <a:ext cx="7101000" cy="25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0920" y="782640"/>
            <a:ext cx="800100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3.2. The “black-box”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Analysis levels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4366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cDNA splice site analysi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4366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cDNA overlap analysi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4366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BLASTX overlap analysi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4366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Total exon length analysi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4366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Gene model length analysi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4366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Average conditional probability analysi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3.2.1. cDNA splice site analysi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803160" y="2500200"/>
            <a:ext cx="762156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3.2.1. cDNA splice site analysi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0080" y="1775880"/>
            <a:ext cx="8001000" cy="53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Exact splice site overlap =&gt; "+1". 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Gm boundary overlaps cDNA location but not splice site =&gt; “-1”.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Gm boundary does not overlap cDNA at all =&gt; "0". 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cDNA splice site does not overlap a gm exon boundary but a gene model location =&gt;"-1".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Total score is  sum of all splice site scor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Fuzzy boundaries of cDNAs are (default 15) considered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3.2.2. cDNA overlap analysi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038240" y="2136600"/>
            <a:ext cx="8259840" cy="254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3.2.2. cDNA overlap analysi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0080" y="1776240"/>
            <a:ext cx="800100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absolute overlap with cDNAs (overlapping number of bases)             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sub features of cDNAs are compared to exons of predicted gene models 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3.2.3. BLASTX overlap analysi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00320" y="4094280"/>
            <a:ext cx="4446720" cy="1904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200320" y="1933560"/>
            <a:ext cx="44467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1.Projec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-3934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Project description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-3934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Merging gene predic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3.2.2. cDNA overlap analysi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0080" y="1776240"/>
            <a:ext cx="800100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absolute overlap with cDNAs (overlapping number of bases)             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sub features of cDNAs are compared to exons of predicted gene models 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3.2.2. cDNA overlap analysi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0080" y="1776240"/>
            <a:ext cx="800100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absolute overlap with cDNAs (overlapping number of bases)             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sub features of cDNAs are compared to exons of predicted gene models 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3.2.2. cDNA overlap analysi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0080" y="1776240"/>
            <a:ext cx="800100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absolute overlap with cDNAs (overlapping number of bases)             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sub features of cDNAs are compared to exons of predicted gene models 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755720" y="2500200"/>
            <a:ext cx="571680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0920" y="782640"/>
            <a:ext cx="800100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1.4. </a:t>
            </a:r>
            <a:r>
              <a:rPr b="0" lang="en-GB" sz="3400" spc="-1" strike="noStrike">
                <a:solidFill>
                  <a:srgbClr val="000000"/>
                </a:solidFill>
                <a:latin typeface="Verdana"/>
              </a:rPr>
              <a:t>Benchmarking gene predictor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Sensitivity:                                         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proportion of coding nucleotides that are correctly predicted as coding                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Specificity:                                         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proportion of nucleotides predicted as coding that are actually coding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10920" y="782640"/>
            <a:ext cx="800100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1.4. </a:t>
            </a:r>
            <a:r>
              <a:rPr b="0" lang="en-GB" sz="3400" spc="-1" strike="noStrike">
                <a:solidFill>
                  <a:srgbClr val="000000"/>
                </a:solidFill>
                <a:latin typeface="Verdana"/>
              </a:rPr>
              <a:t>Benchmarking gene predictor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Sensitivity:                                                                                                             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Specificity:                                         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627360" y="3606840"/>
            <a:ext cx="2171880" cy="584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618000" y="1722600"/>
            <a:ext cx="2228760" cy="71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1.4. </a:t>
            </a:r>
            <a:r>
              <a:rPr b="0" lang="en-GB" sz="3400" spc="-1" strike="noStrike">
                <a:solidFill>
                  <a:srgbClr val="000000"/>
                </a:solidFill>
                <a:latin typeface="Verdana"/>
              </a:rPr>
              <a:t>Benchmarking gene predictor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917640" y="2639880"/>
            <a:ext cx="7392960" cy="16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1.5. </a:t>
            </a:r>
            <a:r>
              <a:rPr b="0" lang="en-GB" sz="3400" spc="-1" strike="noStrike">
                <a:solidFill>
                  <a:srgbClr val="000000"/>
                </a:solidFill>
                <a:latin typeface="Verdana"/>
              </a:rPr>
              <a:t>Average cond. probabilit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92080" y="3103560"/>
            <a:ext cx="7443720" cy="69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1.Projec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-3934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Project descrip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-3934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Combining gene predic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1.1. Project descrip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Development of a tool which combin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Verdana"/>
              </a:rPr>
              <a:t>gene predictions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 of various ge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predictors such 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-3934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HMMGene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-3934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GeneID, and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-3934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GeneFind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using similarity eviden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-3934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to a sequence (cDNA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-3934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to a protein (BLASTX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Verdana"/>
              </a:rPr>
              <a:t>1.2. Merging gene predi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80920" y="2614680"/>
            <a:ext cx="7372440" cy="254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Verdana"/>
              </a:rPr>
              <a:t>1.2. Merging gene predi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80920" y="2614680"/>
            <a:ext cx="7372440" cy="254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Verdana"/>
              </a:rPr>
              <a:t>1.2. Merging gene predi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80920" y="2614680"/>
            <a:ext cx="7372440" cy="254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Verdana"/>
              </a:rPr>
              <a:t>1.2. Merging gene predi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80920" y="2614680"/>
            <a:ext cx="7372440" cy="254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2.Software developm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-3934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Analysis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-3934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Design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-3934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Implementation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-3934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Testing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-3934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Use &amp; mainten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s7</dc:creator>
  <dc:description/>
  <dc:language>en-US</dc:language>
  <cp:lastModifiedBy/>
  <cp:revision>0</cp:revision>
  <dc:subject/>
  <dc:title>Merging of gene predictions</dc:title>
</cp:coreProperties>
</file>