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C29-BABF-45D2-B4C1-96686087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41A-8FFB-42DD-AE29-5581383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B47-6444-4B87-9277-0455E877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092-43F8-4285-863D-32B00B35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47F9-EDFC-43E7-8AED-3431D2BC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38D-3D4E-4497-9DA4-65CB73E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8A85-9EA5-4598-94D1-8B92726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9820-E128-447B-94B5-DAF368F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09D-DC41-424F-B73D-008FC3DD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307-A0AE-4235-B3C3-BA97A61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1C79-3CB3-4B62-8DFF-88DEDC8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ACD-7D6F-42D7-A06D-2B51880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B89-28CC-4129-AFBC-5A5FC9E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D2D-AA4E-4A13-90EC-023A05C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1A8-9DE3-4D01-8617-FEC70D2D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917B-4DBA-4EFB-9A90-BA96820B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812F-4D94-4AC0-A73E-566B7E57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A8D-3474-429C-97E7-E450373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098-CC16-41B6-8B18-BFA9CD4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E28-CF1B-46F0-82F9-B95B787A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2D3-DAEC-4601-82E0-C3FDE69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A3C-6873-471F-BF95-2AB4F15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249-D02E-4C59-932E-C5459B3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607-14ED-4D9F-8A0E-1C2D497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3F8-FBE7-4FC5-9AC0-1C14D0124E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102-3B30-453C-95C6-91FE3A4C9C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3407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rging of gene predi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9044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pplica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86900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ebastian R. Spieg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Wellcome Trust Sanger Instit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26 September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car" descr=""/>
          <p:cNvPicPr/>
          <p:nvPr/>
        </p:nvPicPr>
        <p:blipFill>
          <a:blip r:embed="rId1"/>
          <a:stretch/>
        </p:blipFill>
        <p:spPr>
          <a:xfrm>
            <a:off x="3348000" y="3000240"/>
            <a:ext cx="2446200" cy="857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63080" y="2355840"/>
            <a:ext cx="3234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user wante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5520" y="2355840"/>
            <a:ext cx="367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How the user described it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2bus" descr=""/>
          <p:cNvPicPr/>
          <p:nvPr/>
        </p:nvPicPr>
        <p:blipFill>
          <a:blip r:embed="rId1"/>
          <a:stretch/>
        </p:blipFill>
        <p:spPr>
          <a:xfrm>
            <a:off x="3262320" y="2914560"/>
            <a:ext cx="2617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760" y="2355840"/>
            <a:ext cx="472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How the programer understood it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3lorry" descr=""/>
          <p:cNvPicPr/>
          <p:nvPr/>
        </p:nvPicPr>
        <p:blipFill>
          <a:blip r:embed="rId1"/>
          <a:stretch/>
        </p:blipFill>
        <p:spPr>
          <a:xfrm>
            <a:off x="3228840" y="2954160"/>
            <a:ext cx="2686320" cy="9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3080" y="2355840"/>
            <a:ext cx="563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programer intended to develop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4sportscar" descr=""/>
          <p:cNvPicPr/>
          <p:nvPr/>
        </p:nvPicPr>
        <p:blipFill>
          <a:blip r:embed="rId1"/>
          <a:stretch/>
        </p:blipFill>
        <p:spPr>
          <a:xfrm>
            <a:off x="3411360" y="3068640"/>
            <a:ext cx="2321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6040" y="2355840"/>
            <a:ext cx="57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programer developed in the en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5tractor" descr=""/>
          <p:cNvPicPr/>
          <p:nvPr/>
        </p:nvPicPr>
        <p:blipFill>
          <a:blip r:embed="rId1"/>
          <a:stretch/>
        </p:blipFill>
        <p:spPr>
          <a:xfrm>
            <a:off x="3519360" y="2874960"/>
            <a:ext cx="21034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9400" y="2355840"/>
            <a:ext cx="379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user had neede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6spacewagon" descr=""/>
          <p:cNvPicPr/>
          <p:nvPr/>
        </p:nvPicPr>
        <p:blipFill>
          <a:blip r:embed="rId1"/>
          <a:stretch/>
        </p:blipFill>
        <p:spPr>
          <a:xfrm>
            <a:off x="3497400" y="2914560"/>
            <a:ext cx="2149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nalysi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quirements analy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ecifica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erging ru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ML – class diagram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ML – sequence diagr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seudo code for relevant algorithms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mplementation &amp; Testing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Java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sage of BioJava libra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sting on Dictyostelium Chromosome 6 and Plasmodium Chromosome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se &amp; maintena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7080" y="201600"/>
            <a:ext cx="892800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000" y="531720"/>
            <a:ext cx="9018720" cy="60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 want to talk abou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oftware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application </a:t>
            </a:r>
            <a:r>
              <a:rPr b="0" i="1" lang="en-GB" sz="30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to use 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 The application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o use i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he “black-box” wor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1. How to use 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 from the command lin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01600" y="2471760"/>
            <a:ext cx="710100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03772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quirements on Input da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1 sequence per EMBL fi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ene model (annot./pred.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cDNA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RNA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LASTX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BLASTCDS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qualifier for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 stating predi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tein ID in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BLAST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4797360"/>
            <a:ext cx="6767640" cy="360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1. How to use 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024360" cy="35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1000" y="5373720"/>
            <a:ext cx="621972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 The “black-box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Analysis level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DNA splice site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DNA overlap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LASTX overlap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tal exon length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e model length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nditional probability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1. cDNA splice site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03160" y="2500200"/>
            <a:ext cx="76215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38240" y="2136600"/>
            <a:ext cx="82598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3. BLASTX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0320" y="4094280"/>
            <a:ext cx="444672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00320" y="1933560"/>
            <a:ext cx="4446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3.2.4. Total exon length analysis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3.2.5. Gene model length analysi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08200" y="2933640"/>
            <a:ext cx="5716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6. ACP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P = Average Conditional Probabi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ining set used for calc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328000" cy="115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5013360"/>
            <a:ext cx="5473800" cy="6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marL="230040" indent="-23004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PI = Application Programming Interface (AP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et of method definitions for the communication between different software pie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thod of achieving abstraction, between lower-level and higher-level softw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urpos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-1936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of commonly-used functions provided (p.e. to draw windows/icons on scree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-1936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programming from the scratch necess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Pro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 descript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rging gene predi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Verdana"/>
              </a:rPr>
              <a:t>GFMerge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P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JavaDoc" descr=""/>
          <p:cNvPicPr/>
          <p:nvPr/>
        </p:nvPicPr>
        <p:blipFill>
          <a:blip r:embed="rId1"/>
          <a:stretch/>
        </p:blipFill>
        <p:spPr>
          <a:xfrm>
            <a:off x="1981080" y="2120760"/>
            <a:ext cx="525780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HighScorePath" descr=""/>
          <p:cNvPicPr/>
          <p:nvPr/>
        </p:nvPicPr>
        <p:blipFill>
          <a:blip r:embed="rId1"/>
          <a:stretch/>
        </p:blipFill>
        <p:spPr>
          <a:xfrm>
            <a:off x="2286000" y="1866960"/>
            <a:ext cx="4724280" cy="4203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igh scoring pat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305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urther informatio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0"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-283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JavaDoc API for GFMer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0"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-283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ocumentation of GFMer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s for your atten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1. Project descrip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velopment of a tool which combines </a:t>
            </a:r>
            <a:r>
              <a:rPr b="0" i="1" lang="en-GB" sz="2100" spc="-1" strike="noStrike">
                <a:solidFill>
                  <a:srgbClr val="000000"/>
                </a:solidFill>
                <a:latin typeface="Verdana"/>
              </a:rPr>
              <a:t>gene predic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of various gene predictors such 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HMMGen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Gene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GeneFind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ing similarity evi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to a sequence (cDN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to a protein (BLASTX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D06790_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9638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bastian Spiegler</cp:lastModifiedBy>
  <dcterms:modified xsi:type="dcterms:W3CDTF">2003-09-25T21:07:55Z</dcterms:modified>
  <cp:revision>53</cp:revision>
  <dc:subject/>
  <dc:title>Merging of gene predictions</dc:title>
</cp:coreProperties>
</file>