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4766A-DFC1-4F1C-B620-CF47B78B0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0BDDA-30D1-4271-9DDD-B01248F96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25B6E-975A-4571-B925-17CF20A4B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846CD-2D6E-427C-AD8B-BAB9FA3F9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FFA2D-CADF-4092-992F-F89C505A0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D2F92-4F23-4EEF-87C3-4F3CFAD13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6B45F-9DF6-45DC-AE87-17C1AFF13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3D42F-6642-4E6E-AE7C-14C61831A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CE8EE-3E3E-4C5F-BCAC-29DF481D2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D278C-F28F-4538-84AF-24C8D6A75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21531-4669-4C74-91C6-1CD24BAE5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6D5FC-F44F-483C-98DA-D715A4CD3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35AE6-D19F-4A07-9A40-4EE9AA37C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3EE90-E711-4D48-B3A8-25029D8C2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AB8F8-33E8-4266-B334-1D8463DD5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DCE29-8446-402A-A1F8-66C9F08DC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C02F5-B04E-43F7-9D72-A67864066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9B02B-8918-49DC-B259-23AD2E2B8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70745-A5A0-4525-B70D-9802FFB9A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DB89A-128D-42CA-B196-C6B5848EE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B8AE8-1D62-4A69-B274-C35E43178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8D17F-D828-4826-AE54-54192865A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BCBDD-43C5-4F50-81B4-DF6DA7972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B8F42-6E42-482C-9F3A-960DB55F6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051FA-732E-4190-84DC-4A1AAB73DD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D23A4-8F41-48D6-BFB9-71EA8E6B19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Merging of gene prediction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he application </a:t>
            </a:r>
            <a:r>
              <a:rPr b="0" i="1" lang="en-GB" sz="2800" spc="-1" strike="noStrike">
                <a:solidFill>
                  <a:srgbClr val="000000"/>
                </a:solidFill>
                <a:latin typeface="Verdana"/>
              </a:rPr>
              <a:t>GFMerg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1.2. Requirements - part III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Verdana"/>
              </a:rPr>
              <a:t>Scoring system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should be developed which combines evidences data and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rediction scores to a total score of a gene model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program should be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Verdana"/>
              </a:rPr>
              <a:t>modular and extendable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1.3. Merging rules – part I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Verdana"/>
              </a:rPr>
              <a:t>If different gene models in one region overlap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Verdana"/>
              </a:rPr>
              <a:t>Pick gene model with </a:t>
            </a:r>
            <a:r>
              <a:rPr b="0" lang="en-GB" sz="2100" spc="-1" strike="noStrike" u="sng">
                <a:solidFill>
                  <a:srgbClr val="000000"/>
                </a:solidFill>
                <a:uFillTx/>
                <a:latin typeface="Verdana"/>
              </a:rPr>
              <a:t>highest sequence similarity</a:t>
            </a:r>
            <a:r>
              <a:rPr b="0" lang="en-GB" sz="2100" spc="-1" strike="noStrike">
                <a:solidFill>
                  <a:srgbClr val="000000"/>
                </a:solidFill>
                <a:latin typeface="Verdana"/>
              </a:rPr>
              <a:t> (cDNA). If several gene models have the same similarity, keep all of them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Verdana"/>
              </a:rPr>
              <a:t>Pick gene model with </a:t>
            </a:r>
            <a:r>
              <a:rPr b="0" lang="en-GB" sz="2100" spc="-1" strike="noStrike" u="sng">
                <a:solidFill>
                  <a:srgbClr val="000000"/>
                </a:solidFill>
                <a:uFillTx/>
                <a:latin typeface="Verdana"/>
              </a:rPr>
              <a:t>highest protein similarity</a:t>
            </a:r>
            <a:r>
              <a:rPr b="0" lang="en-GB" sz="2100" spc="-1" strike="noStrike">
                <a:solidFill>
                  <a:srgbClr val="000000"/>
                </a:solidFill>
                <a:latin typeface="Verdana"/>
              </a:rPr>
              <a:t> (BLAST). If several gene models have the same similarity, keep all of them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Verdana"/>
              </a:rPr>
              <a:t>Several identical predictions take precedence over a single non-identical gene model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1.3. Merging rules – part II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Verdana"/>
              </a:rPr>
              <a:t>If different gene models in one region overlap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Verdan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Verdana"/>
              </a:rPr>
              <a:t>Pick rather long gene models than shorter gene models not to lose any coding information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Verdan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Verdana"/>
              </a:rPr>
              <a:t>Use </a:t>
            </a:r>
            <a:r>
              <a:rPr b="0" lang="en-GB" sz="2100" spc="-1" strike="noStrike" u="sng">
                <a:solidFill>
                  <a:srgbClr val="000000"/>
                </a:solidFill>
                <a:uFillTx/>
                <a:latin typeface="Verdana"/>
              </a:rPr>
              <a:t>total exon length</a:t>
            </a:r>
            <a:r>
              <a:rPr b="0" lang="en-GB" sz="2100" spc="-1" strike="noStrike">
                <a:solidFill>
                  <a:srgbClr val="000000"/>
                </a:solidFill>
                <a:latin typeface="Verdana"/>
              </a:rPr>
              <a:t> (gm length including only exons)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Verdan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Verdana"/>
              </a:rPr>
              <a:t>Use </a:t>
            </a:r>
            <a:r>
              <a:rPr b="0" lang="en-GB" sz="2100" spc="-1" strike="noStrike" u="sng">
                <a:solidFill>
                  <a:srgbClr val="000000"/>
                </a:solidFill>
                <a:uFillTx/>
                <a:latin typeface="Verdana"/>
              </a:rPr>
              <a:t>gene model length</a:t>
            </a:r>
            <a:r>
              <a:rPr b="0" lang="en-GB" sz="2100" spc="-1" strike="noStrike">
                <a:solidFill>
                  <a:srgbClr val="000000"/>
                </a:solidFill>
                <a:latin typeface="Verdana"/>
              </a:rPr>
              <a:t> (gm length including exons and introns)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Verdan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Verdana"/>
              </a:rPr>
              <a:t>Use </a:t>
            </a:r>
            <a:r>
              <a:rPr b="0" lang="en-GB" sz="2100" spc="-1" strike="noStrike" u="sng">
                <a:solidFill>
                  <a:srgbClr val="000000"/>
                </a:solidFill>
                <a:uFillTx/>
                <a:latin typeface="Verdana"/>
              </a:rPr>
              <a:t>average conditional probability</a:t>
            </a:r>
            <a:r>
              <a:rPr b="0" lang="en-GB" sz="2100" spc="-1" strike="noStrike">
                <a:solidFill>
                  <a:srgbClr val="000000"/>
                </a:solidFill>
                <a:latin typeface="Verdana"/>
              </a:rPr>
              <a:t> of prediction program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1.3. Merging rules – part III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If different gene models in one region overlap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24"/>
              </a:spcBef>
              <a:buClr>
                <a:srgbClr val="cc0000"/>
              </a:buClr>
              <a:buSzPct val="65000"/>
              <a:buFont typeface="Verdana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 </a:t>
            </a:r>
            <a:r>
              <a:rPr b="0" lang="en-US" sz="2100" spc="-1" strike="noStrike" u="sng">
                <a:solidFill>
                  <a:srgbClr val="000000"/>
                </a:solidFill>
                <a:uFillTx/>
                <a:latin typeface="Verdana"/>
              </a:rPr>
              <a:t>percentage coverage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f similarity data to score the overlap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24"/>
              </a:spcBef>
              <a:buClr>
                <a:srgbClr val="cc0000"/>
              </a:buClr>
              <a:buSzPct val="65000"/>
              <a:buFont typeface="Verdana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 u="sng">
                <a:solidFill>
                  <a:srgbClr val="000000"/>
                </a:solidFill>
                <a:uFillTx/>
                <a:latin typeface="Verdana"/>
              </a:rPr>
              <a:t>Accumulate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all BLAST hits from the same protein to a gene model, use the sum for scoring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24"/>
              </a:spcBef>
              <a:buClr>
                <a:srgbClr val="cc0000"/>
              </a:buClr>
              <a:buSzPct val="65000"/>
              <a:buFont typeface="Verdana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If two or more predictions overlap, take the one with the </a:t>
            </a:r>
            <a:r>
              <a:rPr b="0" lang="en-US" sz="2100" spc="-1" strike="noStrike" u="sng">
                <a:solidFill>
                  <a:srgbClr val="000000"/>
                </a:solidFill>
                <a:uFillTx/>
                <a:latin typeface="Verdana"/>
              </a:rPr>
              <a:t>highest score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Verdana"/>
              </a:rPr>
              <a:t>1.4. Average Cond. Prob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hat I want to talk about …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Verdana"/>
              </a:rPr>
              <a:t>Projec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Verdana"/>
              </a:rPr>
              <a:t>Software developmen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Verdana"/>
              </a:rPr>
              <a:t>The application GFMerg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Verdana"/>
              </a:rPr>
              <a:t>How to use i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Verdana"/>
              </a:rPr>
              <a:t>How it work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1. The projec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velopment of a tool which combin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Verdana"/>
              </a:rPr>
              <a:t>gene predictions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of various gen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redicters such a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HMMGene,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GeneID and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GeneFinde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ing similarity evidenc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o a sequence (cDNA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o a protein (BLASTX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1.1 Combining gene prediction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880920" y="2614680"/>
            <a:ext cx="7372440" cy="25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1.1 Combining gene prediction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880920" y="2614680"/>
            <a:ext cx="7372440" cy="25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1.1 Combining gene prediction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880920" y="2614680"/>
            <a:ext cx="7372440" cy="25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1.1 Combining gene prediction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880920" y="2614680"/>
            <a:ext cx="7372440" cy="25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1.2. Requirements - part I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Verdana"/>
              </a:rPr>
              <a:t>Undefined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number of gene predictions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redictions from different gene structure prediction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Verdana"/>
              </a:rPr>
              <a:t>programs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on the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Verdana"/>
              </a:rPr>
              <a:t>same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sequence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Merging into one gene prediction containing only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Verdana"/>
              </a:rPr>
              <a:t>high quality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gene models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1.2. Requirements - part II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Verdana"/>
              </a:rPr>
              <a:t>Simple rules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as base of merging process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Gene model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Verdana"/>
              </a:rPr>
              <a:t>scores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of predi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hould be used for comparison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cores from different prediction sources should be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Verdana"/>
              </a:rPr>
              <a:t>normalized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3T12:42:19Z</dcterms:created>
  <dc:creator>ss7</dc:creator>
  <dc:description/>
  <dc:language>en-US</dc:language>
  <cp:lastModifiedBy>ss7</cp:lastModifiedBy>
  <dcterms:modified xsi:type="dcterms:W3CDTF">2003-09-24T09:35:25Z</dcterms:modified>
  <cp:revision>44</cp:revision>
  <dc:subject/>
  <dc:title>Merging of gene predic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5</vt:r8>
  </property>
</Properties>
</file>