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28004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28004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28004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28004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28004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28004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28004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28004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920" y="4372560"/>
            <a:ext cx="90694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2920" y="43725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50520" y="43725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5520" y="176796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2920" y="437256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5520" y="437256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94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2920" y="43725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50520" y="43725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2920" y="4372560"/>
            <a:ext cx="90694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48080" y="6886440"/>
            <a:ext cx="3193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1840" indent="-285480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3840" indent="-216000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5480" indent="-214200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7480" indent="-216000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7480" indent="-216000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7480" indent="-216000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3280" y="6886440"/>
            <a:ext cx="23461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2160360"/>
            <a:ext cx="907272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tate of the ABI yeast dat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9640" y="2700360"/>
            <a:ext cx="90727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vid Carter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October 5</a:t>
            </a:r>
            <a:r>
              <a:rPr b="0" lang="en-GB" sz="3200" spc="-1" strike="noStrike" baseline="33000">
                <a:solidFill>
                  <a:srgbClr val="000000"/>
                </a:solidFill>
                <a:latin typeface="DejaVu Sans"/>
              </a:rPr>
              <a:t>th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 2007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03280" y="6886440"/>
            <a:ext cx="23461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Raw cou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655280"/>
            <a:ext cx="907236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ABI reads for 37 Sc strains, 27 Sp strain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1x coverage, except: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3x Sc: DBVPG6765, SK1, W303, Y55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3x Sp: CBS5829, N-17, N-45,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             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UWOPS91-917.1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6x Sp: CBS432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After initial filtering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Total reads: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727k Sc,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694k Sp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Total lengths: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716M Sc,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571M Sp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3280" y="6886440"/>
            <a:ext cx="23461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267840"/>
            <a:ext cx="9072360" cy="13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PALAS: Parallel Alignment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and ASsembly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1792080"/>
            <a:ext cx="907236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Prepare expanded reference genome: transform to graph by allowing deletions of transposons and repeats, additions of new transposons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Set assembly of each strain to (maximal string of) expanded reference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Align all (unplaced) reads of each strain to assembly for that strain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Choose best “cluster” of alignments for each read pair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Place some clusters, disallowing all overlaps in same strain, and overlaps with breaks between strains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Infer ARGs (possible trees at each point in genome) and use them to impute missing values and correct errors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Create new assembly for each strain based on the above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Finish if converged enough, else go back to “Align” step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03280" y="6886440"/>
            <a:ext cx="23461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178920"/>
            <a:ext cx="907272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DejaVu Sans"/>
              </a:rPr>
              <a:t>PALAS: advantages and limitations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000" y="1236600"/>
            <a:ext cx="9072360" cy="65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+ Allows (long) insertions to be created, using  material from different strains..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- ...but how correctly?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+ Iterative structure allows good local alignments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+ Imputation gives confidence for each base call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+ Use of alternative sequences should allow presence of transposons and repeats to be determined [accuracy?]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+ (new): reality of short indels is assessed in final iteration, leading to far fewer awkward indels in coding sequence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-: does not handle copy number variation (but we can flag it:  overlapping alignments from same strain with several good-quality differences)</a:t>
            </a:r>
            <a:r>
              <a:rPr b="0" lang="en-GB" sz="2000" spc="-1" strike="noStrike">
                <a:solidFill>
                  <a:srgbClr val="000000"/>
                </a:solidFill>
                <a:latin typeface="DejaVu Sans"/>
                <a:ea typeface="Lucida Grande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-: does not really handle highly-variable regions like telomeres (few/no alignments)</a:t>
            </a:r>
            <a:r>
              <a:rPr b="0" lang="en-GB" sz="2000" spc="-1" strike="noStrike">
                <a:solidFill>
                  <a:srgbClr val="000000"/>
                </a:solidFill>
                <a:latin typeface="DejaVu Sans"/>
                <a:ea typeface="Lucida Grande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03280" y="6886440"/>
            <a:ext cx="23461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Current state of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</a:rPr>
              <a:t>Current browser and FTP data are pre-PALAS – replace soon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</a:rPr>
              <a:t>Completed Sc:Sc alignments after 30 iterations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</a:rPr>
              <a:t>Running Sp:Sc (Sp strains to Sc reference) and Sp:Sp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</a:rPr>
              <a:t>Evaluate on “good” reads: at least 400bp of high-quality sequence (regions of quality 20 or above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Lucida Grande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</a:rPr>
              <a:t>Ssaha alignment score is roughly length of alignment penalized by mismatches (90% identity -&gt; 2/3 score)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03280" y="6886440"/>
            <a:ext cx="23461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How many good reads align?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68000" y="1800360"/>
            <a:ext cx="907236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(Thousands of reads)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  <a:ea typeface="Lucida Grande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Sc:Sc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Sp:Sc  Sp:Sp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Total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727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716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716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Good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616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546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546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Align(20)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612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533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541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Align(200)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610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498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538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Align(400)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603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386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528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03280" y="6886440"/>
            <a:ext cx="23461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Read fates in Sc:Sc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36320" y="1679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DejaVu Sans"/>
              </a:rPr>
              <a:t>Placed: 92% (only ¼ on first iteration)</a:t>
            </a:r>
            <a:r>
              <a:rPr b="0" lang="en-GB" sz="2600" spc="-1" strike="noStrike">
                <a:solidFill>
                  <a:srgbClr val="000000"/>
                </a:solidFill>
                <a:latin typeface="DejaVu Sans"/>
                <a:ea typeface="Lucida Grande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DejaVu Sans"/>
              </a:rPr>
              <a:t>Of these, 1.9% contained a non-trivial insertion; average length 136 bp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DejaVu Sans"/>
              </a:rPr>
              <a:t>Too ambiguous to place: 1.6%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DejaVu Sans"/>
              </a:rPr>
              <a:t>Not placed because of clashes: 6%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DejaVu Sans"/>
              </a:rPr>
              <a:t>Never aligned: 1789 (0.2%). Of these, 456 are from YJM978.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03280" y="6886440"/>
            <a:ext cx="23461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3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BLAST results on unaligned read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early all reads align to someth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~30% align to human gene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early all human-gene alignments have %identity &lt; 90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st insertion sequences align best to Sc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nger Institute</cp:lastModifiedBy>
  <dcterms:modified xsi:type="dcterms:W3CDTF">2007-10-05T12:14:35Z</dcterms:modified>
  <cp:revision>1</cp:revision>
  <dc:subject/>
  <dc:title>State of the ABI yeast data</dc:title>
</cp:coreProperties>
</file>