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E15-F622-433D-BC69-E9C23A0E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60E-4CEF-42E9-8832-1666870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35E-8E72-4072-8C29-FD706BCF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0A7-C0EF-4384-A1DA-6DB14D5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6A2-E304-4679-ABB2-C13E1764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555-AB28-4E35-8C12-7D1B581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97B-55D6-40E4-8DC4-84952BB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177-4E96-42FE-87E8-17CC4D73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B47-58E8-4A06-94E0-C7E806E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867-CC7A-4D05-854D-06EB3D9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E7F-91BD-4FCE-927E-16D0671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50D-CDB4-4B3B-9996-5BEF3BE0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335C-9B51-4CB0-891B-4D7FEC5A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le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0" r="10245" b="0"/>
          <a:stretch/>
        </p:blipFill>
        <p:spPr>
          <a:xfrm>
            <a:off x="792000" y="1700280"/>
            <a:ext cx="7309080" cy="421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29242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88914" t="33214" r="-1018" b="33598"/>
          <a:stretch/>
        </p:blipFill>
        <p:spPr>
          <a:xfrm>
            <a:off x="2050920" y="2205000"/>
            <a:ext cx="1474920" cy="2089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492360" y="765000"/>
            <a:ext cx="5472360" cy="3878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508720" y="1916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in Europea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adox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6093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fferent numbers of individuals and different method for orienting SNPs in the two species – hard to compare these ch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rcRect l="0" t="0" r="29081" b="0"/>
          <a:stretch/>
        </p:blipFill>
        <p:spPr>
          <a:xfrm>
            <a:off x="179280" y="206280"/>
            <a:ext cx="7129440" cy="6418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rcRect l="70877" t="19720" r="0" b="59014"/>
          <a:stretch/>
        </p:blipFill>
        <p:spPr>
          <a:xfrm>
            <a:off x="5580000" y="549360"/>
            <a:ext cx="3311640" cy="1544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60720" y="1125360"/>
            <a:ext cx="503280" cy="1727280"/>
          </a:xfrm>
          <a:custGeom>
            <a:avLst/>
            <a:gdLst>
              <a:gd name="textAreaLeft" fmla="*/ 0 w 503280"/>
              <a:gd name="textAreaRight" fmla="*/ 181800 w 5032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26"/>
                </a:lnTo>
                <a:cubicBezTo>
                  <a:pt x="10800" y="9126"/>
                  <a:pt x="16200" y="10026"/>
                  <a:pt x="21600" y="10026"/>
                </a:cubicBezTo>
                <a:cubicBezTo>
                  <a:pt x="16200" y="10026"/>
                  <a:pt x="10800" y="10926"/>
                  <a:pt x="10800" y="1182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3440" y="1628640"/>
            <a:ext cx="503280" cy="1729080"/>
          </a:xfrm>
          <a:custGeom>
            <a:avLst/>
            <a:gdLst>
              <a:gd name="textAreaLeft" fmla="*/ 0 w 503280"/>
              <a:gd name="textAreaRight" fmla="*/ 181800 w 503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7080" y="1268280"/>
            <a:ext cx="22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fy the number of  deleterious non-synonymous all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59640" y="3429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3284640"/>
            <a:ext cx="20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idence for advantageous alleles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c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s in orienting SNP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736640"/>
            <a:ext cx="655308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75888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allele frequencies in our yeast resequencing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49228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” frequenc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s of variant alle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tal allele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342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otal&gt;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5956200"/>
            <a:ext cx="65898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reference strain isn’t special – we want the frequency of the ‘mutant’ or derived all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327672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5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4797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72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726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92360" y="2133360"/>
            <a:ext cx="165600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276640"/>
            <a:ext cx="1800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73272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4795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84360" y="400536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651280" y="3860640"/>
            <a:ext cx="649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726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94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486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43280" y="4292640"/>
            <a:ext cx="1368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9080" y="5583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5583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108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5589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ther populations to orient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414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006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500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708000" y="4149720"/>
            <a:ext cx="934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59280" y="3141720"/>
            <a:ext cx="865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. c. base agrees with the S. p. base, this is probably ances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2646360"/>
            <a:ext cx="6337440" cy="404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2339640" y="357336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3213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paradox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rient SNPS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cerevis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33344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allele frequencies in our yeast resequencing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508640"/>
            <a:ext cx="936720" cy="165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371628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 sel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pl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327672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5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4797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72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4726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492360" y="2133360"/>
            <a:ext cx="165600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276640"/>
            <a:ext cx="1800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3272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4795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84360" y="400536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651280" y="3860640"/>
            <a:ext cx="649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4726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94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486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643280" y="4292640"/>
            <a:ext cx="1368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9080" y="5583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583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108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5589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ther populations to orient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134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synonymous sites, these species are ~70% 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414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5006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500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8000" y="4149720"/>
            <a:ext cx="934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mrca inferred by margari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3933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ncestor=a|dat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420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data|ancestor=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63817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0200" y="6446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data|ancestor=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63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13539"/>
          <a:stretch/>
        </p:blipFill>
        <p:spPr>
          <a:xfrm>
            <a:off x="0" y="3429000"/>
            <a:ext cx="500868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0" b="13110"/>
          <a:stretch/>
        </p:blipFill>
        <p:spPr>
          <a:xfrm>
            <a:off x="77760" y="404640"/>
            <a:ext cx="4854600" cy="2664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58920" y="260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enting SNPs without an outgroup really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328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17002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ous polymorphic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3657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polymorphic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327672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5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4797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72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4726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492360" y="2133360"/>
            <a:ext cx="165600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2276640"/>
            <a:ext cx="1800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73272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4795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479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84360" y="400536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651280" y="3860640"/>
            <a:ext cx="649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4726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94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486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643280" y="4292640"/>
            <a:ext cx="1368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5583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5583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6108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5589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ther populations to orient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134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synonymous sites, these species are ~70% 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4000" y="414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4933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8472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493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006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500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708000" y="4149720"/>
            <a:ext cx="934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ncestor=a|dat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420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data|ancestor=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63817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0200" y="6446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data|ancestor=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63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020200">
            <a:off x="2484000" y="4076640"/>
            <a:ext cx="538200" cy="677880"/>
          </a:xfrm>
          <a:custGeom>
            <a:avLst/>
            <a:gdLst>
              <a:gd name="textAreaLeft" fmla="*/ 343800 w 538200"/>
              <a:gd name="textAreaRight" fmla="*/ 538560 w 538200"/>
              <a:gd name="textAreaTop" fmla="*/ 17640 h 677880"/>
              <a:gd name="textAreaBottom" fmla="*/ 66024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20200">
            <a:off x="3452760" y="1687680"/>
            <a:ext cx="719280" cy="2479680"/>
          </a:xfrm>
          <a:custGeom>
            <a:avLst/>
            <a:gdLst>
              <a:gd name="textAreaLeft" fmla="*/ 459720 w 719280"/>
              <a:gd name="textAreaRight" fmla="*/ 719640 w 719280"/>
              <a:gd name="textAreaTop" fmla="*/ 64440 h 2479680"/>
              <a:gd name="textAreaBottom" fmla="*/ 2415240 h 24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131600">
            <a:off x="6461280" y="1458720"/>
            <a:ext cx="863280" cy="3600360"/>
          </a:xfrm>
          <a:custGeom>
            <a:avLst/>
            <a:gdLst>
              <a:gd name="textAreaLeft" fmla="*/ 0 w 863280"/>
              <a:gd name="textAreaRight" fmla="*/ 311760 w 863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378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036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/ (y+z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6697800" cy="427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2123640" y="2203560"/>
            <a:ext cx="1079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error)&lt;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476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RCA inference is dependent on allele frequenc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771280" y="364320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334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01&lt;P(error)&lt;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48000" y="421956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393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01&lt;P(error)&lt;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95400"/>
            <a:ext cx="59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using imputed m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mixture of phylogenetic and sequencing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sequence uncertainty greater for rare all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phyogenetic uncertainty greater for common all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0" r="10245" b="0"/>
          <a:stretch/>
        </p:blipFill>
        <p:spPr>
          <a:xfrm>
            <a:off x="971640" y="0"/>
            <a:ext cx="5976720" cy="3444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0" t="0" r="11831" b="0"/>
          <a:stretch/>
        </p:blipFill>
        <p:spPr>
          <a:xfrm>
            <a:off x="900000" y="2997360"/>
            <a:ext cx="5904000" cy="3470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88914" t="33214" r="-1018" b="33598"/>
          <a:stretch/>
        </p:blipFill>
        <p:spPr>
          <a:xfrm>
            <a:off x="4067280" y="333360"/>
            <a:ext cx="1474560" cy="20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03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% error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6491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9242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 of 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3789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missing high-frequency allel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8:00:26Z</dcterms:created>
  <dc:creator>alan moses</dc:creator>
  <dc:description/>
  <dc:language>en-US</dc:language>
  <cp:lastModifiedBy>alan moses</cp:lastModifiedBy>
  <dcterms:modified xsi:type="dcterms:W3CDTF">2007-10-04T11:50:44Z</dcterms:modified>
  <cp:revision>2</cp:revision>
  <dc:subject/>
  <dc:title>Allele frequencies</dc:title>
</cp:coreProperties>
</file>