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0CA1-76A5-455E-89E4-89142F65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C1F6-16DE-4395-BA9D-8F5C94FD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F1E8-78FD-4656-957F-B8350733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0194-FAD1-4428-B059-739B43D8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CE3-E305-4CC2-8A09-22A9DFE9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86D8-8D2A-462A-B63B-B19562A1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0136-E98C-4ED9-9114-6A4FA1DD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8C55-45D9-4B7E-A7FF-6D2C12C6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D33-6393-4837-A610-B188BAE7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3628-2088-41FF-8C0C-BD0E2AED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C01-DF56-410C-A837-2F7442A0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9EC5-E936-4E2E-A43C-A401F7AF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D255-E682-4425-AAFA-21C07A0E9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-mutation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68360" y="552600"/>
            <a:ext cx="6551640" cy="3236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 this for all Pfam dom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016000" y="3500280"/>
            <a:ext cx="7128000" cy="3071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6200" y="1094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preliminary data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3141720"/>
            <a:ext cx="12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action of SN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64000" y="61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4292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. paradox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155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. cerevisi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75498"/>
          <a:stretch/>
        </p:blipFill>
        <p:spPr>
          <a:xfrm>
            <a:off x="539640" y="115920"/>
            <a:ext cx="7848720" cy="5568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484360" y="575316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on usage bias is strongly correlated with mRNA levels in yeat. (Figure from Coghlan &amp; Wolfe 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6697800" cy="5667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4360" y="53737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. cerevisiae and S. paradoxus show largely the same pattern, but is this due to lack of divergence or is selection acting to maintain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27288" b="0"/>
          <a:stretch/>
        </p:blipFill>
        <p:spPr>
          <a:xfrm>
            <a:off x="3708360" y="2781360"/>
            <a:ext cx="5400720" cy="3868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155736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ly expressed genes should have selection to fix changes that improve their average codon adap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997360"/>
            <a:ext cx="309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cause we know the direction of these changes, we can actually infer selection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rienting the SN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653000"/>
            <a:ext cx="3203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cVean &amp; Charlesworth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utter &amp; Charlesworth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3280" y="6381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quency of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referr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585720"/>
            <a:ext cx="8353440" cy="5722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00000" y="1159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selection acts to increase the frequency of alleles in populations, negative selection decreases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56674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y &amp; Wu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nnu. Rev. Genomics Hum. Gen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6381720"/>
            <a:ext cx="60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wyer &amp; Hartl 1992, Poisson random field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684360" y="6022440"/>
            <a:ext cx="71280" cy="57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5075" r="0" b="0"/>
          <a:stretch/>
        </p:blipFill>
        <p:spPr>
          <a:xfrm>
            <a:off x="826920" y="17640"/>
            <a:ext cx="5832720" cy="3535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6347" r="25002" b="5768"/>
          <a:stretch/>
        </p:blipFill>
        <p:spPr>
          <a:xfrm>
            <a:off x="755640" y="3059280"/>
            <a:ext cx="5040360" cy="3538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2924280"/>
            <a:ext cx="12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action of SN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763280" y="3049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2000" y="64911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907640" y="3429000"/>
            <a:ext cx="180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692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ing the oriented SNPs we know the direction of th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427640" y="4941720"/>
            <a:ext cx="1512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2276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for both positive and negative sel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genome wide data we can test these models for other types of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ory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do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7691" t="0" r="0" b="0"/>
          <a:stretch/>
        </p:blipFill>
        <p:spPr>
          <a:xfrm>
            <a:off x="1619280" y="1415880"/>
            <a:ext cx="5040360" cy="2478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rot="16200000">
            <a:off x="-285480" y="2020680"/>
            <a:ext cx="21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ber of SN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32720" y="151776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NPs are eliminated by purifying sel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17747" r="0" b="15296"/>
          <a:stretch/>
        </p:blipFill>
        <p:spPr>
          <a:xfrm>
            <a:off x="755640" y="836640"/>
            <a:ext cx="6192720" cy="2736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63640" y="476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nch site is highly specified in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. cerevisia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rcRect l="0" t="0" r="30979" b="0"/>
          <a:stretch/>
        </p:blipFill>
        <p:spPr>
          <a:xfrm>
            <a:off x="826920" y="3882960"/>
            <a:ext cx="4608720" cy="2786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rcRect l="69046" t="30492" r="0" b="32078"/>
          <a:stretch/>
        </p:blipFill>
        <p:spPr>
          <a:xfrm>
            <a:off x="2987640" y="4005360"/>
            <a:ext cx="2376360" cy="1833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4797360"/>
            <a:ext cx="12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action of SN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43280" y="64468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16720" y="458136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NPs that are present are at low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840720" cy="3670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716360" y="5661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141720"/>
            <a:ext cx="12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action of SN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7280" y="476280"/>
            <a:ext cx="4465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an classify SNPs based on their effect on the specificity of the branch si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NPs that improve the site are at higher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0" y="1094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preliminary data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2:00:37Z</dcterms:created>
  <dc:creator>alan moses</dc:creator>
  <dc:description/>
  <dc:language>en-US</dc:language>
  <cp:lastModifiedBy>alan moses</cp:lastModifiedBy>
  <dcterms:modified xsi:type="dcterms:W3CDTF">2007-10-04T14:19:53Z</dcterms:modified>
  <cp:revision>3</cp:revision>
  <dc:subject/>
  <dc:title>Selection-mutation balance</dc:title>
</cp:coreProperties>
</file>