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6784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11800" y="144792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6784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11800" y="3954600"/>
            <a:ext cx="223200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880" y="338040"/>
            <a:ext cx="69328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360" y="395460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447920"/>
            <a:ext cx="33829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4600"/>
            <a:ext cx="69328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33344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447920" y="6324480"/>
            <a:ext cx="1904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05320" y="6324480"/>
            <a:ext cx="2895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0520" y="101520"/>
            <a:ext cx="1992240" cy="417600"/>
            <a:chOff x="7040520" y="101520"/>
            <a:chExt cx="1992240" cy="4176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8405640" y="101520"/>
              <a:ext cx="6271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040520" y="142920"/>
              <a:ext cx="1336680" cy="33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8458200" y="6561000"/>
            <a:ext cx="685800" cy="348840"/>
            <a:chOff x="8458200" y="6561000"/>
            <a:chExt cx="685800" cy="348840"/>
          </a:xfrm>
        </p:grpSpPr>
        <p:sp>
          <p:nvSpPr>
            <p:cNvPr id="8" name=""/>
            <p:cNvSpPr/>
            <p:nvPr/>
          </p:nvSpPr>
          <p:spPr>
            <a:xfrm>
              <a:off x="8458200" y="6561000"/>
              <a:ext cx="685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6561000"/>
              <a:ext cx="685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7C75D90-A56A-4948-A7F4-5966E9E2BD1C}" type="slidenum"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&lt;number&gt;</a:t>
              </a:fld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of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28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447920"/>
            <a:ext cx="69328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nalysis/proserver/" TargetMode="External"/><Relationship Id="rId2" Type="http://schemas.openxmlformats.org/officeDocument/2006/relationships/hyperlink" Target="http://das.sanger.ac.uk/registry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ensembl.org/Homo_sapiens/contigview?data_URL=http://www.ensembl.org/info/data/external_data/examples/url_bed.txt" TargetMode="Externa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formats/GFF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rch.cpan.org/~rpettett/Bio-DasLite-0.14" TargetMode="External"/><Relationship Id="rId2" Type="http://schemas.openxmlformats.org/officeDocument/2006/relationships/hyperlink" Target="http://www.biodas.org/download/Bio::Das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sembl.org/das/Homo_sapiens.current.reference/entry_points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639720"/>
            <a:ext cx="738504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a40000"/>
                </a:solidFill>
                <a:latin typeface="Arial"/>
              </a:rPr>
              <a:t>Ensembl and DAS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73400" y="5278320"/>
            <a:ext cx="4499280" cy="1046160"/>
            <a:chOff x="4073400" y="5278320"/>
            <a:chExt cx="4499280" cy="1046160"/>
          </a:xfrm>
        </p:grpSpPr>
        <p:sp>
          <p:nvSpPr>
            <p:cNvPr id="50" name=""/>
            <p:cNvSpPr/>
            <p:nvPr/>
          </p:nvSpPr>
          <p:spPr>
            <a:xfrm>
              <a:off x="4073400" y="5278320"/>
              <a:ext cx="4499280" cy="3812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3400" y="5278320"/>
              <a:ext cx="44992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3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Eugene Kules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Wellcome Trust Sanger Instit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April 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040" y="6462720"/>
            <a:ext cx="912960" cy="26424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</a:rPr>
              <a:t>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70360" y="3343320"/>
            <a:ext cx="147168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657600" y="3089160"/>
            <a:ext cx="1762200" cy="1787760"/>
            <a:chOff x="3657600" y="3089160"/>
            <a:chExt cx="1762200" cy="1787760"/>
          </a:xfrm>
        </p:grpSpPr>
        <p:grpSp>
          <p:nvGrpSpPr>
            <p:cNvPr id="55" name=""/>
            <p:cNvGrpSpPr/>
            <p:nvPr/>
          </p:nvGrpSpPr>
          <p:grpSpPr>
            <a:xfrm>
              <a:off x="3657600" y="3089160"/>
              <a:ext cx="1762200" cy="1787760"/>
              <a:chOff x="3657600" y="3089160"/>
              <a:chExt cx="1762200" cy="1787760"/>
            </a:xfrm>
          </p:grpSpPr>
          <p:sp>
            <p:nvSpPr>
              <p:cNvPr id="56" name=""/>
              <p:cNvSpPr/>
              <p:nvPr/>
            </p:nvSpPr>
            <p:spPr>
              <a:xfrm>
                <a:off x="3657600" y="3089160"/>
                <a:ext cx="1762200" cy="1787760"/>
              </a:xfrm>
              <a:custGeom>
                <a:avLst/>
                <a:gdLst/>
                <a:ahLst/>
                <a:rect l="l" t="t" r="r" b="b"/>
                <a:pathLst>
                  <a:path w="4896" h="4967">
                    <a:moveTo>
                      <a:pt x="2447" y="0"/>
                    </a:moveTo>
                    <a:cubicBezTo>
                      <a:pt x="1112" y="0"/>
                      <a:pt x="0" y="282"/>
                      <a:pt x="0" y="620"/>
                    </a:cubicBezTo>
                    <a:lnTo>
                      <a:pt x="0" y="4346"/>
                    </a:lnTo>
                    <a:cubicBezTo>
                      <a:pt x="0" y="4684"/>
                      <a:pt x="1112" y="4966"/>
                      <a:pt x="2447" y="4966"/>
                    </a:cubicBezTo>
                    <a:cubicBezTo>
                      <a:pt x="3783" y="4966"/>
                      <a:pt x="4895" y="4684"/>
                      <a:pt x="4895" y="4346"/>
                    </a:cubicBezTo>
                    <a:lnTo>
                      <a:pt x="4895" y="620"/>
                    </a:ln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3089160"/>
                <a:ext cx="1762200" cy="447840"/>
              </a:xfrm>
              <a:custGeom>
                <a:avLst/>
                <a:gdLst/>
                <a:ahLst/>
                <a:rect l="l" t="t" r="r" b="b"/>
                <a:pathLst>
                  <a:path w="4896" h="1242">
                    <a:moveTo>
                      <a:pt x="2447" y="0"/>
                    </a:moveTo>
                    <a:cubicBezTo>
                      <a:pt x="1112" y="0"/>
                      <a:pt x="0" y="282"/>
                      <a:pt x="0" y="621"/>
                    </a:cubicBezTo>
                    <a:cubicBezTo>
                      <a:pt x="0" y="960"/>
                      <a:pt x="1112" y="1241"/>
                      <a:pt x="2447" y="1241"/>
                    </a:cubicBezTo>
                    <a:cubicBezTo>
                      <a:pt x="3783" y="1241"/>
                      <a:pt x="4895" y="960"/>
                      <a:pt x="4895" y="621"/>
                    </a:cubicBezTo>
                    <a:cubicBezTo>
                      <a:pt x="4895" y="282"/>
                      <a:pt x="3783" y="0"/>
                      <a:pt x="2447" y="0"/>
                    </a:cubicBezTo>
                  </a:path>
                </a:pathLst>
              </a:custGeom>
              <a:solidFill>
                <a:srgbClr val="0099ff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309920" y="2454120"/>
            <a:ext cx="1800" cy="932040"/>
          </a:xfrm>
          <a:prstGeom prst="line">
            <a:avLst/>
          </a:prstGeom>
          <a:ln w="14616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57920" y="2451240"/>
            <a:ext cx="1440" cy="938160"/>
          </a:xfrm>
          <a:prstGeom prst="line">
            <a:avLst/>
          </a:prstGeom>
          <a:ln w="146160">
            <a:solidFill>
              <a:srgbClr val="23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7000" y="1460520"/>
            <a:ext cx="775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1:1,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51080" y="2168640"/>
            <a:ext cx="743904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0280" y="1460520"/>
            <a:ext cx="7709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NT_0779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87520" y="2178000"/>
            <a:ext cx="70563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840" y="1487520"/>
            <a:ext cx="7651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reference/features?segment=AL732372.15.1.153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3840" y="2340000"/>
            <a:ext cx="7524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30420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3320" y="907920"/>
            <a:ext cx="698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oring assembl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nsembl.org/das/Homo_sapiens.current.karyotype/features?segment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7560" y="1487520"/>
            <a:ext cx="438948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74680" y="2562480"/>
            <a:ext cx="777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49520"/>
            <a:ext cx="7358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dding DAS source to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1568520"/>
            <a:ext cx="77104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witch on pre-configur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t up your own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(ProServer, Dazzle, LDAS – see Ensembl do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Configure an existing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Upload your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View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end your source to a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9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eb-based sources (Contigview &amp; Cytovie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547560"/>
            <a:ext cx="69339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geneview, protview, trans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7080" y="2495520"/>
            <a:ext cx="7737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528480"/>
            <a:ext cx="69343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witch on a pre-configured source in contigview and cyto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1440" y="2352600"/>
            <a:ext cx="74026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t up your own DAS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560600"/>
            <a:ext cx="743904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analysis/proserv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zz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biojava.org/dazzl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biodas.org/servers/LD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egister with DAS Regist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8080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 Regist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1397160"/>
            <a:ext cx="675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04840" y="1560600"/>
            <a:ext cx="557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2320" y="976320"/>
            <a:ext cx="81154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880" y="659880"/>
            <a:ext cx="69343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and Ensem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1932120"/>
            <a:ext cx="660384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Essent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DAS sources to Ensembl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nfiguration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code in Ensem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33360" y="1432080"/>
            <a:ext cx="776448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43160" y="1198440"/>
            <a:ext cx="76755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81160" y="1633680"/>
            <a:ext cx="6086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97160" y="1260360"/>
            <a:ext cx="76564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Configure an existing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080" y="2065320"/>
            <a:ext cx="76755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9080" y="1341360"/>
            <a:ext cx="784692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notation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2060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7680" y="1069920"/>
            <a:ext cx="66578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pload your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6120" y="2038320"/>
            <a:ext cx="66009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gen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351080"/>
            <a:ext cx="6257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contig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55920" y="1316160"/>
            <a:ext cx="6648120" cy="53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24000"/>
            <a:ext cx="69343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tributed Annotation System (DA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 server system for the sharing of Reference Sequences, and their anno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ser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Referenc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Annot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AS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HG Mincho Light J;MS Gothic;HG 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sembl as DAS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biodas.org/documents/spe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407520"/>
            <a:ext cx="693432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4200480"/>
            <a:ext cx="738504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3440" y="1158840"/>
            <a:ext cx="74628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90000"/>
            <a:ext cx="69339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View your data in prot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68520" y="942840"/>
            <a:ext cx="631332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3880" y="404640"/>
            <a:ext cx="69343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Gene-based annotations in contig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12960" y="228600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514520"/>
            <a:ext cx="66578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1520" y="190440"/>
            <a:ext cx="693432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Applying styleshe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57240" y="966960"/>
            <a:ext cx="6572520" cy="490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54240" y="6141960"/>
            <a:ext cx="7192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12720" y="1395360"/>
            <a:ext cx="7115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Using score dat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520" y="228600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90680" y="54000"/>
            <a:ext cx="64152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38040"/>
            <a:ext cx="6934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end the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1520" y="1479600"/>
            <a:ext cx="72928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Homo_sapines/contig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_script=contigview;c=13:31829752.5:1;w=500000;h=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_das_source= (name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l=http://das.ensembl.org/das+dsn=hydraeuf_00001291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=ensembl_location+color=red+strand=b+labelflag=u+stylesheet=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group=n+depth=10+score=n+active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6520" y="4454640"/>
            <a:ext cx="76392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bed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pcl.t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nsembl.org/info/data/external_data/examples/url_gff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1636560"/>
            <a:ext cx="780408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browser position chr19:6900001-74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track name=BAC_end_pairs_bed description="BAC end pairs (BED)" useScore=1 color=ffcc66 url=http://www.ensembl.org/human/fastaview?faid=DNA_bacend_1533&amp;id=$$ height=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03520 6641948 CTD-3084A17:AQ144413-AQ186293   1000    -       6503520 6641948 0       2       462,512 0,137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567 6695619 RP11-357B22:AZ518790-AQ552859   1000    -       6527567 6695619 0       2       470,525 0,1675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umberland;Courier New;Courier;"/>
              </a:rPr>
              <a:t>19      6527640 6704480 RP11-134L9:AQ388324-AQ388334    1000    -       6527640 6704480 0       2       307,557 0,176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play of web-based sour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87680" y="1906560"/>
            <a:ext cx="6657840" cy="4172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2520" y="1544760"/>
            <a:ext cx="76755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ensembl.org/Homo_sapiens/contigview?data_URL=http://www.ensembl.org/info/data/external_data/examples/url_bed.t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3160" y="177840"/>
            <a:ext cx="6933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xerci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880920"/>
            <a:ext cx="78469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file for uploa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features should belong to the group 'Probe A'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eatures should belong to the group 'Probe B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ylesheet section that renders Probe A features in red and Probe B features in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load the  file and view the track in contig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 the same source via auto-attach URL, but with stylesheet switched off and features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 form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anger.ac.uk/Software/formats/GFF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CSS_support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_upload_v1.e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52164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istributed Annot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04920" y="1136520"/>
            <a:ext cx="74754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50880" y="2856240"/>
            <a:ext cx="6951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1040" y="96480"/>
            <a:ext cx="61340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36600" y="1521000"/>
            <a:ext cx="824220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Lite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.cpan.org/~rpettett/Bio-DasLite-0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Das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biodas.org/download/Bio::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AP  : http://soaplite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-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configure a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Serv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06680" y="132840"/>
            <a:ext cx="58798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3560" y="1068480"/>
            <a:ext cx="79131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Web services (Used for DA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WWW_PROXY  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_REGISTRY_URL        = http://das.sanger.ac.uk/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SERVERS         = [das.ensembl.or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SERVER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HOST    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ORT    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NAME    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USER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SEMBL_DAS_UPLOAD_DB_PASS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313560"/>
            <a:ext cx="664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Preconfigure a source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3880" y="1595520"/>
            <a:ext cx="55800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o_sapiens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.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DAS 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NSEMBL_INTERNAL_DAS_SOURC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A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B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C =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n        = proj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rl         = http://das.ensembl.org/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        = [ contigview cytoview geneview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7400" y="-67320"/>
            <a:ext cx="6388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560" y="457200"/>
            <a:ext cx="604476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Source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sn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rl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cytoview gene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ensembl_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ption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Source A pr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bl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belflag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omepage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elplink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http://das.ensembl.org/das/projec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rand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th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9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ylesheet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core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contigview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NCBIM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asta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= [ DNA_A_probes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66920" y="389880"/>
            <a:ext cx="764064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8640" y="2373480"/>
            <a:ext cx="5829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03520" y="335880"/>
            <a:ext cx="74404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setup </a:t>
            </a:r>
            <a:br>
              <a:rPr sz="3600"/>
            </a:br>
            <a:r>
              <a:rPr b="1" lang="en-GB" sz="2600" spc="-1" strike="noStrike">
                <a:solidFill>
                  <a:srgbClr val="3333cc"/>
                </a:solidFill>
                <a:latin typeface="Arial"/>
              </a:rPr>
              <a:t>Data up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7200" y="1552680"/>
            <a:ext cx="53341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ProServer (eg/proserver.in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hydraeu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or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upload_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dra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name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ens_up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das.mydoma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t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33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name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rw_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word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2856240"/>
            <a:ext cx="771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76640" y="83880"/>
            <a:ext cx="5913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Future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1760" y="811080"/>
            <a:ext cx="65872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serving Ensembl DA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as DA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ing Ensembl data as DA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 for Functional geno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bining features and real valu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sembl Upload Format,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loading gene and protein bas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`meta`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e Ensembl display at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ss-assembly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play sources based on old assemblies on the current Ensemb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S2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1320" y="2933640"/>
            <a:ext cx="75214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3514680"/>
            <a:ext cx="74325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DASTalk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1998720"/>
            <a:ext cx="7107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://www.ensembl.org/info/data/external_data/da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5520" y="1316160"/>
            <a:ext cx="5043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dsn` -  Get the list of availabl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7040" y="2673360"/>
            <a:ext cx="53719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3600" y="2022480"/>
            <a:ext cx="3717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das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DAS Ess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2640" y="2400480"/>
            <a:ext cx="6086520" cy="394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03480" y="1333440"/>
            <a:ext cx="3929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`features` - Get the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8800" y="1895400"/>
            <a:ext cx="73890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ebi.ac.uk/das-srv/asd/das/atd_human/features?segment=13:3770000,38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9480" y="1496880"/>
            <a:ext cx="473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referenc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ensembl.org/das/d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71520" y="2182680"/>
            <a:ext cx="7647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4840" y="1389240"/>
            <a:ext cx="795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of entry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nsembl.org/das/Homo_sapiens.current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nsembl.org/das/Homo_sapiens.NCBI36.reference/entry_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22280" y="2332080"/>
            <a:ext cx="751536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3880" y="612360"/>
            <a:ext cx="6934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nsembl as DAS 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0200" y="1460520"/>
            <a:ext cx="26172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30440" y="2114640"/>
            <a:ext cx="6772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