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7921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42560" y="4192560"/>
            <a:ext cx="7921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386568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01920" y="1484280"/>
            <a:ext cx="386568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42560" y="4192560"/>
            <a:ext cx="386568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01920" y="4192560"/>
            <a:ext cx="386568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2550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0960" y="1484280"/>
            <a:ext cx="2550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99720" y="1484280"/>
            <a:ext cx="2550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42560" y="4192560"/>
            <a:ext cx="2550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20960" y="4192560"/>
            <a:ext cx="2550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99720" y="4192560"/>
            <a:ext cx="2550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042560" y="1484280"/>
            <a:ext cx="79218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7921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38656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01920" y="1484280"/>
            <a:ext cx="38656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144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386568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1920" y="1484280"/>
            <a:ext cx="38656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42560" y="4192560"/>
            <a:ext cx="386568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42560" y="1484280"/>
            <a:ext cx="79218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38656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1920" y="1484280"/>
            <a:ext cx="386568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01920" y="4192560"/>
            <a:ext cx="386568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386568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01920" y="1484280"/>
            <a:ext cx="386568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42560" y="4192560"/>
            <a:ext cx="7921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7921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042560" y="4192560"/>
            <a:ext cx="7921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386568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01920" y="1484280"/>
            <a:ext cx="386568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042560" y="4192560"/>
            <a:ext cx="386568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01920" y="4192560"/>
            <a:ext cx="386568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2550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20960" y="1484280"/>
            <a:ext cx="2550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9720" y="1484280"/>
            <a:ext cx="2550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042560" y="4192560"/>
            <a:ext cx="2550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20960" y="4192560"/>
            <a:ext cx="2550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9720" y="4192560"/>
            <a:ext cx="2550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7921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38656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1920" y="1484280"/>
            <a:ext cx="38656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386568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01920" y="1484280"/>
            <a:ext cx="38656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42560" y="4192560"/>
            <a:ext cx="386568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38656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01920" y="1484280"/>
            <a:ext cx="386568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01920" y="4192560"/>
            <a:ext cx="386568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386568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1920" y="1484280"/>
            <a:ext cx="386568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42560" y="4192560"/>
            <a:ext cx="7921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125360"/>
            <a:ext cx="900000" cy="5732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42560" y="1484280"/>
            <a:ext cx="7921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1052640"/>
            <a:ext cx="914400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52640"/>
            <a:ext cx="140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052640"/>
            <a:ext cx="23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nsembl website refacto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804000" y="1052640"/>
            <a:ext cx="23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mes Smith (js5@sanger.ac.u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08000" y="101520"/>
            <a:ext cx="934920" cy="8841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108000" y="6308640"/>
            <a:ext cx="714240" cy="4762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0" y="5969160"/>
            <a:ext cx="900000" cy="32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125360"/>
            <a:ext cx="900000" cy="573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052640"/>
            <a:ext cx="914400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52640"/>
            <a:ext cx="140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052640"/>
            <a:ext cx="23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nsembl website refacto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04000" y="1052640"/>
            <a:ext cx="23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mes Smith (js5@sanger.ac.u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08000" y="101520"/>
            <a:ext cx="934920" cy="884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08000" y="6308640"/>
            <a:ext cx="714240" cy="476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5969160"/>
            <a:ext cx="900000" cy="32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7921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nsembl website refactor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 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5@sanger.ac.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embl Web Team Project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riting a new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7993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dd a new script we need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a new script in perl/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one or more of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ScriptConfig modu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Factory module and/or function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Object module and/or function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Configuration module and/or function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Component module and/o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look at writing a status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urrent status modu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7993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status script produces a plain text p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16280"/>
            <a:ext cx="540072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w status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46200" y="1484280"/>
            <a:ext cx="6913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7993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cript nee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le user input, either directly from the web-page parameters – or through web-page cook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cc0000"/>
                </a:solidFill>
                <a:latin typeface="Andale Mono"/>
              </a:rPr>
              <a:t>$webpage = new EnsEMBL::Web::Webpage( ...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any objects requi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cc0000"/>
                </a:solidFill>
                <a:latin typeface="Andale Mono"/>
              </a:rPr>
              <a:t>$webpage = new EnsEMBL::Web::Webpage( ...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le errors that are generat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cc0000"/>
                </a:solidFill>
                <a:latin typeface="Andale Mono"/>
              </a:rPr>
              <a:t>$webpage-&gt;has_a_problem;</a:t>
            </a:r>
            <a:br>
              <a:rPr sz="800"/>
            </a:br>
            <a:r>
              <a:rPr b="1" lang="en-US" sz="800" spc="-1" strike="noStrike">
                <a:solidFill>
                  <a:srgbClr val="cc0000"/>
                </a:solidFill>
                <a:latin typeface="Andale Mono"/>
              </a:rPr>
              <a:t>	</a:t>
            </a:r>
            <a:r>
              <a:rPr b="1" lang="en-US" sz="800" spc="-1" strike="noStrike">
                <a:solidFill>
                  <a:srgbClr val="cc0000"/>
                </a:solidFill>
                <a:latin typeface="Andale Mono"/>
              </a:rPr>
              <a:t>	</a:t>
            </a:r>
            <a:r>
              <a:rPr b="1" lang="en-US" sz="800" spc="-1" strike="noStrike">
                <a:solidFill>
                  <a:srgbClr val="cc0000"/>
                </a:solidFill>
                <a:latin typeface="Andale Mono"/>
              </a:rPr>
              <a:t>	</a:t>
            </a:r>
            <a:r>
              <a:rPr b="1" lang="en-US" sz="800" spc="-1" strike="noStrike">
                <a:solidFill>
                  <a:srgbClr val="cc0000"/>
                </a:solidFill>
                <a:latin typeface="Andale Mono"/>
              </a:rPr>
              <a:t>	</a:t>
            </a:r>
            <a:r>
              <a:rPr b="1" lang="en-US" sz="800" spc="-1" strike="noStrike">
                <a:solidFill>
                  <a:srgbClr val="cc0000"/>
                </a:solidFill>
                <a:latin typeface="Andale Mono"/>
              </a:rPr>
              <a:t>	</a:t>
            </a:r>
            <a:r>
              <a:rPr b="1" lang="en-US" sz="800" spc="-1" strike="noStrike">
                <a:solidFill>
                  <a:srgbClr val="cc0000"/>
                </a:solidFill>
                <a:latin typeface="Andale Mono"/>
              </a:rPr>
              <a:t>$webpage-&gt;render_error_pag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e the displ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cc0000"/>
                </a:solidFill>
                <a:latin typeface="Andale Mono"/>
              </a:rPr>
              <a:t>$webpage-&gt;configure( ... 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der the displ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cc0000"/>
                </a:solidFill>
                <a:latin typeface="Andale Mono"/>
              </a:rPr>
              <a:t>$webpage-&gt;render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ample webpage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7993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#!/usr/local/bin/per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Andale Mono"/>
              </a:rPr>
              <a:t>package status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use stric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use warnings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no warnings "uninitialized"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Andale Mono"/>
              </a:rPr>
              <a:t>use EnsEMBL::Web::WebPag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# Initialize the p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#    EnsEMBL::Web::WebPage is effectively a webpage factory, which “creates” ele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#    the elements of the webpage – including the renderer, factory, objects, et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# Paramet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#   'scriptname‘ =&gt; [opt] set if want to use alt. scripts input che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#   'objecttype‘ =&gt; [req] type of object to use (B::E::Object::Gene,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#   'renderer‘   =&gt; [opt] defaults to Apache, where to send outp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#   'outputtype‘ =&gt; [res] in future will may allow rendering in Text, XML, PDF, Excel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Andale Mono"/>
              </a:rPr>
              <a:t>my $webpage= new EnsEMBL::Web::WebPage( 'objecttype' =&gt; 'Server‘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Andale Mono"/>
              </a:rPr>
              <a:t>if( $webpage-&gt;has_a_problem 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# Handle err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# Show an error page if there is a probl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Andale Mono"/>
              </a:rPr>
              <a:t>$webpage-&gt;render_error_pag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Andale Mono"/>
              </a:rPr>
              <a:t>} else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# Configure the p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# Now configure the page, we need to pass configure an object so that it can get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#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and modules from  it, the usual approach here is just to loop over all objects (usually only 1!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# Parameters to configure are a E::W::ProxyObject and a list of function calls to make 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# E::W::Configuration::object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Andale Mono"/>
              </a:rPr>
              <a:t>$webpage-&gt;configure( $_, qw(status context_menu) ) foreach @{$webpage-&gt;dataObjects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# Finally render the p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Andale Mono"/>
              </a:rPr>
              <a:t>$webpage-&gt;render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Andale Mono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w status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546200" y="1484280"/>
            <a:ext cx="6913440" cy="5184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916360" y="2708280"/>
            <a:ext cx="5472000" cy="394992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cc0000"/>
                </a:solidFill>
                <a:latin typeface="Arial"/>
              </a:rPr>
              <a:t>Configured by “statu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2637000"/>
            <a:ext cx="2376720" cy="70920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cc0000"/>
                </a:solidFill>
                <a:latin typeface="Arial"/>
              </a:rPr>
              <a:t>Configured 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0" lang="en-GB" sz="1000" spc="-1" strike="noStrike">
                <a:solidFill>
                  <a:srgbClr val="cc0000"/>
                </a:solidFill>
                <a:latin typeface="Arial"/>
              </a:rPr>
              <a:t>context_menu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figuring th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7993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figure the display we have to add elements to the webp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“content” of the webpage is made up one or more panels, which we have to configure at this st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ft-hand navigation menu is made up of one or more input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figuration functions can create or extend these panels or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dd a panel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cc0000"/>
                </a:solidFill>
                <a:latin typeface="Andale Mono"/>
              </a:rPr>
              <a:t>$self-&gt;{page}-&gt;content-&gt;add_panel( ... 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dd a section to a panel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cc0000"/>
                </a:solidFill>
                <a:latin typeface="Andale Mono"/>
              </a:rPr>
              <a:t>$self-&gt;{page}-&gt;content-&gt;panel( ... )-&gt;add_component_first(); et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dd a menu block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cc0000"/>
                </a:solidFill>
                <a:latin typeface="Andale Mono"/>
              </a:rPr>
              <a:t>$self-&gt;{page}-&gt;menu-&gt;add_block( ... 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dd a menu entry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cc0000"/>
                </a:solidFill>
                <a:latin typeface="Andale Mono"/>
              </a:rPr>
              <a:t>$self-&gt;{page}-&gt;menu-&gt;add_entry( ... 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ample Configuration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7993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package EnsEMBL::Web::Configuration::Server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use stric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use EnsEMBL::Web::Configuration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our @ISA = qw( EnsEMBL::Web::Configuration 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sub status {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my $self = shif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my $content = $self-&gt;{page}-&gt;conten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# First panel, “two-column style” displaying the server inform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if( my $panel1 = $self-&gt;new_panel( "Information"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'code'    =&gt; "info",                         ## Name this one “info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'caption' =&gt; 'Current server information',   ## This is it’s ca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'object'  =&gt; $self-&gt;{object}                 ## Finally pass it the “Web::Object” objec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) ) {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$panel1-&gt;add_components(qw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name       EnsEMBL::Web::Component::Server::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url        EnsEMBL::Web::Component::Server::ur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version    EnsEMBL::Web::Component::Server::ver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webserver  EnsEMBL::Web::Component::Server::web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perl       EnsEMBL::Web::Component::Server::per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database   EnsEMBL::Web::Component::Server::data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contact    EnsEMBL::Web::Component::Server::conta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)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$content-&gt;add_panel( $panel1 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# Second panel, “spreadsheet table style” displaying the configured speci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if( my $panel2 = $self-&gt;new_panel( "SpreadSheet“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'code'    =&gt; 'species',                      ## Name this one “species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'caption' =&gt; 'Configured species',           ## And set it’s ca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'object'  =&gt; $self-&gt;{object},                ## Pass it the “Web::Object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'status'  =&gt; 'Species‘                       ## Make this panel “collapsable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) ) {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$panel2-&gt;add_components( qw(species EnsEMBL::Web::Component::Server::spreadsheet_Species)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$content-&gt;add_panel( $panel2 )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1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80000" y="1341360"/>
            <a:ext cx="3456000" cy="1189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use EnsEMBL::Web::WebPag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my $webpage= new EnsEMBL::Web::WebPage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'objecttype' =&gt; 'Server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foreach @{$webpage-&gt;dataObjects} {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$webpage-&gt;configure( $_, qw(</a:t>
            </a:r>
            <a:r>
              <a:rPr b="1" lang="en-GB" sz="800" spc="-1" strike="noStrike">
                <a:solidFill>
                  <a:srgbClr val="cc0000"/>
                </a:solidFill>
                <a:latin typeface="Andale Mono"/>
              </a:rPr>
              <a:t>status</a:t>
            </a: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 context_menu) 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}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$webpage-&gt;render(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932360" y="3429000"/>
            <a:ext cx="3600360" cy="824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function creates the two panels used to generate the right hand side of the status, one based on the “two-column” format, and one based on a “spreadsheet” lay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ample Configuration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7993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package EnsEMBL::Web::Configuration::Serve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..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sub context_menu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my $self = shif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0000"/>
                </a:solidFill>
                <a:latin typeface="Andale Mono"/>
              </a:rPr>
              <a:t>$self-&gt;add_block( 'server', 'bulleted', 'Server information' 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0000"/>
                </a:solidFill>
                <a:latin typeface="Andale Mono"/>
              </a:rPr>
              <a:t>  </a:t>
            </a:r>
            <a:r>
              <a:rPr b="0" lang="en-US" sz="900" spc="-1" strike="noStrike">
                <a:solidFill>
                  <a:srgbClr val="cc0000"/>
                </a:solidFill>
                <a:latin typeface="Andale Mono"/>
              </a:rPr>
              <a:t>$self-&gt;add_entry( ‘server'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0000"/>
                </a:solidFill>
                <a:latin typeface="Andale Mono"/>
              </a:rPr>
              <a:t>    </a:t>
            </a:r>
            <a:r>
              <a:rPr b="0" lang="en-US" sz="900" spc="-1" strike="noStrike">
                <a:solidFill>
                  <a:srgbClr val="cc0000"/>
                </a:solidFill>
                <a:latin typeface="Andale Mono"/>
              </a:rPr>
              <a:t>'text'    =&gt; 'Server information'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0000"/>
                </a:solidFill>
                <a:latin typeface="Andale Mono"/>
              </a:rPr>
              <a:t>    </a:t>
            </a:r>
            <a:r>
              <a:rPr b="0" lang="en-US" sz="900" spc="-1" strike="noStrike">
                <a:solidFill>
                  <a:srgbClr val="cc0000"/>
                </a:solidFill>
                <a:latin typeface="Andale Mono"/>
              </a:rPr>
              <a:t>'href'    =&gt; "/$ENV{'ENSEMBL_SPECIES'}/status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0000"/>
                </a:solidFill>
                <a:latin typeface="Andale Mono"/>
              </a:rPr>
              <a:t>  </a:t>
            </a:r>
            <a:r>
              <a:rPr b="0" lang="en-US" sz="900" spc="-1" strike="noStrike">
                <a:solidFill>
                  <a:srgbClr val="cc0000"/>
                </a:solidFill>
                <a:latin typeface="Andale Mono"/>
              </a:rPr>
              <a:t>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my $colourmap_URL = "/$ENV{'ENSEMBL_SPECIES'}/colourmap"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my @colourmap_OPT = (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[ 'Sorted by Red, Green'              =&gt; “$colourmap_URL?sort=rgb” ]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[ 'Sorted by Red, Blue'               =&gt; “$colourmap_URL?sort=rbg” ]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[ 'Sorted by Green, Red'              =&gt; “$colourmap_URL?sort=grb” ]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[ 'Sorted by Green, Blue'             =&gt; “$colourmap_URL?sort=gbr” ]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[ 'Sorted by Blue, Red'               =&gt; “$colourmap_URL?sort=brg” ]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[ 'Sorted by Blue, Green'             =&gt; “$colourmap_URL?sort=bgr” ]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[ 'Sorted by Hue, Saturation'         =&gt; “$colourmap_URL?hls=hsl”  ]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[ 'Sorted by Hue, Luminosity'         =&gt; “$colourmap_URL?hls=hls“  ]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[ 'Sorted by Luminosity, Hue'         =&gt; “$colourmap_URL?hls=lhs”  ]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[ 'Sorted by Luminosity, Saturation'  =&gt; “$colourmap_URL?hls=lsh”  ]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[ 'Sorted by Saturation, Hue'         =&gt; “$colourmap_URL?hls=shl”  ]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[ 'Sorted by Saturation, Luminosity'  =&gt; “$colourmap_URL?hls=slh”  ]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$self-&gt;add_entry( 'server'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'text'    =&gt; 'ColourMap'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'href'    =&gt; $colourmap_URL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   ‘</a:t>
            </a: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options' =&gt; [map {{ 'href' =&gt; $_-&gt;[1], 'text' =&gt; $_-&gt;[0] }} @colourmap_OPT ]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ndale Mono"/>
              </a:rPr>
              <a:t>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80000" y="1341360"/>
            <a:ext cx="3456000" cy="1189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use EnsEMBL::Web::WebPag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my $webpage= new EnsEMBL::Web::WebPage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'objecttype' =&gt; 'Server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foreach @{$webpage-&gt;dataObjects} {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$webpage-&gt;configure( $_, qw(status </a:t>
            </a:r>
            <a:r>
              <a:rPr b="1" lang="en-GB" sz="800" spc="-1" strike="noStrike">
                <a:solidFill>
                  <a:srgbClr val="cc0000"/>
                </a:solidFill>
                <a:latin typeface="Andale Mono"/>
              </a:rPr>
              <a:t>context_menu</a:t>
            </a: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) 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}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$webpage-&gt;render(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24360" y="3429000"/>
            <a:ext cx="2808360" cy="1189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function creates a “left-hand-side” navigation menu block, and adds entries for the status page, and also the colour-map script.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menu is shared with the colour map scri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ndling persistent user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7993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two types of user configuration stored on the server based on a users cookie. You will already be familiar with the EnsEMBL::Web::UserConfig::… objects for configuring the images on the pages – these will be ke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now adding a second type, EnsEMBL::Web::ScriptConfig::, these hold script specific information. You create a EnsEMBL::Web::ScriptConfig object which is configured by the package EnsEMBL::Web::ScriptConfig: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{scriptname}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/or “plugin” pack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ackage contains a single function 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which acts on the E::W::SC object when it is created and sets the default values for the ScriptConfig ob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orage of the cookie is “transparent” to the script – it is embedded in the “new” call for the EnsEMBL::Web::WebPage object, so you don’t have to worry about calling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46200" y="1484280"/>
            <a:ext cx="6913440" cy="51847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92720" y="4653000"/>
            <a:ext cx="244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Dynamic error handling, sending errors to the brows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2924280"/>
            <a:ext cx="107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Context sensitive 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869000"/>
            <a:ext cx="107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How-to style 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060640"/>
            <a:ext cx="151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Information about re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2349360"/>
            <a:ext cx="151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Search box on all p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ample ScriptConfig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7993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package EnsEMBL::Web::ScriptConfig::statu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use stric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sub init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my ($script_config) = @_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$script_config-&gt;_set_defaults(qw(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panel_species 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ndale Mono"/>
              </a:rPr>
              <a:t>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80000" y="1341360"/>
            <a:ext cx="3456000" cy="1189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use EnsEMBL::Web::WebPag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my $webpage= new EnsEMBL::Web::WebPage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'objecttype' =&gt; 'Server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foreach @{$webpage-&gt;dataObjects} {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$webpage-&gt;configure( $_, qw(</a:t>
            </a:r>
            <a:r>
              <a:rPr b="0" lang="en-GB" sz="800" spc="-1" strike="noStrike">
                <a:solidFill>
                  <a:srgbClr val="cc0000"/>
                </a:solidFill>
                <a:latin typeface="Andale Mono"/>
              </a:rPr>
              <a:t>status</a:t>
            </a: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 </a:t>
            </a:r>
            <a:r>
              <a:rPr b="1" lang="en-GB" sz="800" spc="-1" strike="noStrike">
                <a:solidFill>
                  <a:srgbClr val="000000"/>
                </a:solidFill>
                <a:latin typeface="Andale Mono"/>
              </a:rPr>
              <a:t>context_menu</a:t>
            </a: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) 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}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$webpage-&gt;render(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4720" y="3429000"/>
            <a:ext cx="4248000" cy="183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iptConfig’s are not “objects” they contain just a single function “init” which is called with the ScriptConfig object passed to it as the first parameter, and act upon this ScriptConfig object.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modules name is based on the name of the script which is being configu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is case we are configuring the “species” panel to be collap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546200" y="1484280"/>
            <a:ext cx="6913440" cy="51847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atus display with collapsed pa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16360" y="4797360"/>
            <a:ext cx="5472000" cy="55080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cc0000"/>
                </a:solidFill>
                <a:latin typeface="Arial"/>
              </a:rPr>
              <a:t>Collapsed status stored in the</a:t>
            </a:r>
            <a:br>
              <a:rPr sz="1000"/>
            </a:br>
            <a:r>
              <a:rPr b="0" lang="en-GB" sz="1000" spc="-1" strike="noStrike">
                <a:solidFill>
                  <a:srgbClr val="cc0000"/>
                </a:solidFill>
                <a:latin typeface="Arial"/>
              </a:rPr>
              <a:t>EnsEMBL::Web::ScriptConfig</a:t>
            </a:r>
            <a:br>
              <a:rPr sz="1000"/>
            </a:br>
            <a:r>
              <a:rPr b="0" lang="en-GB" sz="1000" spc="-1" strike="noStrike">
                <a:solidFill>
                  <a:srgbClr val="cc0000"/>
                </a:solidFill>
                <a:latin typeface="Arial"/>
              </a:rPr>
              <a:t>in the “flag” – “panel_specie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46200" y="1484280"/>
            <a:ext cx="6913440" cy="51847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inting collapsed panels (or not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76720" y="2852640"/>
            <a:ext cx="2159280" cy="116604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cc0000"/>
                </a:solidFill>
                <a:latin typeface="Arial"/>
              </a:rPr>
              <a:t>Changed printer layou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cc0000"/>
                </a:solidFill>
                <a:latin typeface="Arial"/>
              </a:rPr>
              <a:t>release stripe, search box,</a:t>
            </a:r>
            <a:br>
              <a:rPr sz="1000"/>
            </a:br>
            <a:r>
              <a:rPr b="0" lang="en-GB" sz="1000" spc="-1" strike="noStrike">
                <a:solidFill>
                  <a:srgbClr val="cc0000"/>
                </a:solidFill>
                <a:latin typeface="Arial"/>
              </a:rPr>
              <a:t>   menus all hidden when printing</a:t>
            </a:r>
            <a:br>
              <a:rPr sz="1000"/>
            </a:br>
            <a:r>
              <a:rPr b="0" lang="en-GB" sz="1000" spc="-1" strike="noStrike">
                <a:solidFill>
                  <a:srgbClr val="cc0000"/>
                </a:solidFill>
                <a:latin typeface="Arial"/>
              </a:rPr>
              <a:t>   outpu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cc0000"/>
                </a:solidFill>
                <a:latin typeface="Arial"/>
              </a:rPr>
              <a:t>release information moved to</a:t>
            </a:r>
            <a:br>
              <a:rPr sz="1000"/>
            </a:br>
            <a:r>
              <a:rPr b="0" lang="en-GB" sz="1000" spc="-1" strike="noStrike">
                <a:solidFill>
                  <a:srgbClr val="cc0000"/>
                </a:solidFill>
                <a:latin typeface="Arial"/>
              </a:rPr>
              <a:t>   new loc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050920" y="4941720"/>
            <a:ext cx="5185080" cy="24624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cc0000"/>
                </a:solidFill>
                <a:latin typeface="Arial"/>
              </a:rPr>
              <a:t>Collapsed portion isn’t displayed at all in the printer preview vers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ample Component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7993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package EnsEMBL::Web::Component::Serve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use stric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Andale Mono"/>
              </a:rPr>
              <a:t>sub name</a:t>
            </a: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my( $panel, $object ) = @_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(my $DATE = $object-&gt;species_defs-&gt;ARCHIVE_VERSION ) =~ s/(\d+)/ \1/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$panel-&gt;add_row( 'Site summary'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qq(&lt;p&gt;@{[$object-&gt;species_defs-&gt;ENSEMBL_SITETYPE]} - $DATE&lt;/p&gt;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Andale Mono"/>
              </a:rPr>
              <a:t>sub url</a:t>
            </a: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my($panel, $object) = @_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$panel-&gt;add_row( 'Web address'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qq(&lt;p&gt;@{[ $object-&gt;full_URL( 'species' =&gt; '' ) ]}&lt;/p&gt;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return 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cc0000"/>
                </a:solidFill>
                <a:latin typeface="Andale Mono"/>
              </a:rPr>
              <a:t>sub version</a:t>
            </a:r>
            <a:r>
              <a:rPr b="0" lang="en-GB" sz="900" spc="-1" strike="noStrike">
                <a:solidFill>
                  <a:srgbClr val="000000"/>
                </a:solidFill>
                <a:latin typeface="Andale Mono"/>
              </a:rPr>
              <a:t>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GB" sz="900" spc="-1" strike="noStrike">
                <a:solidFill>
                  <a:srgbClr val="000000"/>
                </a:solidFill>
                <a:latin typeface="Andale Mono"/>
              </a:rPr>
              <a:t>my($panel, $object) = @_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GB" sz="900" spc="-1" strike="noStrike">
                <a:solidFill>
                  <a:srgbClr val="000000"/>
                </a:solidFill>
                <a:latin typeface="Andale Mono"/>
              </a:rPr>
              <a:t>$panel-&gt;add_row( 'Version'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ndale Mono"/>
              </a:rPr>
              <a:t>    </a:t>
            </a:r>
            <a:r>
              <a:rPr b="0" lang="en-GB" sz="900" spc="-1" strike="noStrike">
                <a:solidFill>
                  <a:srgbClr val="000000"/>
                </a:solidFill>
                <a:latin typeface="Andale Mono"/>
              </a:rPr>
              <a:t>qq(&lt;p&gt;@{[$object-&gt;species_defs-&gt;ENSEMBL_VERSION]}&lt;/p&gt;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GB" sz="900" spc="-1" strike="noStrike">
                <a:solidFill>
                  <a:srgbClr val="000000"/>
                </a:solidFill>
                <a:latin typeface="Andale Mono"/>
              </a:rPr>
              <a:t>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GB" sz="900" spc="-1" strike="noStrike">
                <a:solidFill>
                  <a:srgbClr val="000000"/>
                </a:solidFill>
                <a:latin typeface="Andale Mono"/>
              </a:rPr>
              <a:t>return 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ndale Mono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cc0000"/>
                </a:solidFill>
                <a:latin typeface="Andale Mono"/>
              </a:rPr>
              <a:t>sub webserver</a:t>
            </a:r>
            <a:r>
              <a:rPr b="0" lang="en-GB" sz="900" spc="-1" strike="noStrike">
                <a:solidFill>
                  <a:srgbClr val="000000"/>
                </a:solidFill>
                <a:latin typeface="Andale Mono"/>
              </a:rPr>
              <a:t>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GB" sz="900" spc="-1" strike="noStrike">
                <a:solidFill>
                  <a:srgbClr val="000000"/>
                </a:solidFill>
                <a:latin typeface="Andale Mono"/>
              </a:rPr>
              <a:t>my($panel, $object) = @_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GB" sz="900" spc="-1" strike="noStrike">
                <a:solidFill>
                  <a:srgbClr val="000000"/>
                </a:solidFill>
                <a:latin typeface="Andale Mono"/>
              </a:rPr>
              <a:t>$panel-&gt;add_row(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ndale Mono"/>
              </a:rPr>
              <a:t>    </a:t>
            </a:r>
            <a:r>
              <a:rPr b="0" lang="en-GB" sz="900" spc="-1" strike="noStrike">
                <a:solidFill>
                  <a:srgbClr val="000000"/>
                </a:solidFill>
                <a:latin typeface="Andale Mono"/>
              </a:rPr>
              <a:t>'Web server', qq(&lt;p&gt;$ENV{'SERVER_SOFTWARE'}&lt;/p&gt;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GB" sz="900" spc="-1" strike="noStrike">
                <a:solidFill>
                  <a:srgbClr val="000000"/>
                </a:solidFill>
                <a:latin typeface="Andale Mono"/>
              </a:rPr>
              <a:t>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GB" sz="900" spc="-1" strike="noStrike">
                <a:solidFill>
                  <a:srgbClr val="000000"/>
                </a:solidFill>
                <a:latin typeface="Andale Mono"/>
              </a:rPr>
              <a:t>return 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ndale Mono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35640" y="1300320"/>
            <a:ext cx="3600360" cy="1189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$panel1-&gt;add_rows(qw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1" lang="en-GB" sz="800" spc="-1" strike="noStrike">
                <a:solidFill>
                  <a:srgbClr val="cc0000"/>
                </a:solidFill>
                <a:latin typeface="Andale Mono"/>
              </a:rPr>
              <a:t>name       EnsEMBL::Web::Component::Server::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cc0000"/>
                </a:solidFill>
                <a:latin typeface="Andale Mono"/>
              </a:rPr>
              <a:t>  </a:t>
            </a:r>
            <a:r>
              <a:rPr b="1" lang="en-GB" sz="800" spc="-1" strike="noStrike">
                <a:solidFill>
                  <a:srgbClr val="cc0000"/>
                </a:solidFill>
                <a:latin typeface="Andale Mono"/>
              </a:rPr>
              <a:t>url        EnsEMBL::Web::Component::Server::ur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cc0000"/>
                </a:solidFill>
                <a:latin typeface="Andale Mono"/>
              </a:rPr>
              <a:t>  </a:t>
            </a:r>
            <a:r>
              <a:rPr b="1" lang="en-GB" sz="800" spc="-1" strike="noStrike">
                <a:solidFill>
                  <a:srgbClr val="cc0000"/>
                </a:solidFill>
                <a:latin typeface="Andale Mono"/>
              </a:rPr>
              <a:t>version    EnsEMBL::Web::Component::Server::ver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cc0000"/>
                </a:solidFill>
                <a:latin typeface="Andale Mono"/>
              </a:rPr>
              <a:t>  </a:t>
            </a:r>
            <a:r>
              <a:rPr b="1" lang="en-GB" sz="800" spc="-1" strike="noStrike">
                <a:solidFill>
                  <a:srgbClr val="cc0000"/>
                </a:solidFill>
                <a:latin typeface="Andale Mono"/>
              </a:rPr>
              <a:t>webserver  EnsEMBL::Web::Component::Server::web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perl       EnsEMBL::Web::Component::Server::per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database   EnsEMBL::Web::Component::Server::data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contact    EnsEMBL::Web::Component::Server::conta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)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ample Component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7993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package EnsEMBL::Web::Component::Server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use stric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ndale Mono"/>
              </a:rPr>
              <a:t>sub spreadsheet_Species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{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my( $panel, $object ) = @_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$panel-&gt;add_columns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{ 'key'   =&gt; 'species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'align' =&gt; 'left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'title' =&gt; 'Species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'format' =&gt; sub { return sprintf( qq(&lt;a href="%s"&gt;&lt;i&gt;%s&lt;/i&gt;&lt;/a&gt;), $_[1]{'link'}, $_[0] ) } }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{ 'key' =&gt; 'common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'align' =&gt; 'left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'title' =&gt; 'Common name' }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{ 'key'   =&gt; 'gp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'align' =&gt; 'left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'title' =&gt; 'Golden Path' }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{ 'key'   =&gt; 'version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'align' =&gt; 'left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'title' =&gt; 'Version' }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foreach( $object-&gt;get_all_species ) {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$panel-&gt;add_row( $_ 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return 1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48360" y="1386000"/>
            <a:ext cx="3887640" cy="45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$panel2-&gt;add_component( qw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1" lang="en-GB" sz="800" spc="-1" strike="noStrike">
                <a:solidFill>
                  <a:srgbClr val="cc0000"/>
                </a:solidFill>
                <a:latin typeface="Andale Mono"/>
              </a:rPr>
              <a:t>EnsEMBL::Web::Component::Server::spreadsheet_Spec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)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6913800" cy="51847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w status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87640" y="3500280"/>
            <a:ext cx="5329440" cy="283500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cc0000"/>
                </a:solidFill>
                <a:latin typeface="Arial"/>
              </a:rPr>
              <a:t>Columns defined by add_columns call in spreadsheet_Species()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87640" y="5013360"/>
            <a:ext cx="2089080" cy="55080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cc0000"/>
                </a:solidFill>
                <a:latin typeface="Arial"/>
              </a:rPr>
              <a:t>Links generated using the</a:t>
            </a:r>
            <a:br>
              <a:rPr sz="1000"/>
            </a:br>
            <a:r>
              <a:rPr b="0" lang="en-GB" sz="1000" spc="-1" strike="noStrike">
                <a:solidFill>
                  <a:srgbClr val="cc0000"/>
                </a:solidFill>
                <a:latin typeface="Arial"/>
              </a:rPr>
              <a:t>code reference defined</a:t>
            </a:r>
            <a:br>
              <a:rPr sz="1000"/>
            </a:br>
            <a:r>
              <a:rPr b="0" lang="en-GB" sz="1000" spc="-1" strike="noStrike">
                <a:solidFill>
                  <a:srgbClr val="cc0000"/>
                </a:solidFill>
                <a:latin typeface="Arial"/>
              </a:rPr>
              <a:t>in the add_columns c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ample Object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7993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package EnsEMBL::Web::Object::Serve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use stric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use warning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no warnings "uninitialized"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use EnsEMBL::Web::Objec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our @ISA = qw(EnsEMBL::Web::Object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sub get_all_species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my $self = shif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@species = @{ $self-&gt;species_defs-&gt;ENSEMBL_SPECIES }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my @data = 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foreach my $species (@species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(my $name = $species ) =~ s/_/ /g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push @data,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'species‘ =&gt; $name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'common‘  =&gt; $self-&gt;species_defs-&gt;other_species( $species, 'SPECIES_COMMON_NAME' )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     </a:t>
            </a:r>
            <a:r>
              <a:rPr b="1" lang="en-US" sz="900" spc="-1" strike="noStrike">
                <a:solidFill>
                  <a:srgbClr val="cc0000"/>
                </a:solidFill>
                <a:latin typeface="Andale Mono"/>
              </a:rPr>
              <a:t>'link‘    =&gt; $self-&gt;full_URL( 'species'=&gt;$species )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'gp‘      =&gt; $self-&gt;species_defs-&gt;other_species( $species, 'ENSEMBL_GOLDEN_PATH' )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'version‘ =&gt; $self-&gt;species_defs-&gt;other_species( $species, 'SPECIES_RELEASE_VERSION' )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}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return @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48360" y="1344600"/>
            <a:ext cx="3887640" cy="1432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package EnsEMBL::Web::Component::Server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sub spreadsheet_Species {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my( $panel, $object ) = @_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$panel-&gt;add_columns( ... 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foreach( </a:t>
            </a:r>
            <a:r>
              <a:rPr b="1" lang="en-GB" sz="800" spc="-1" strike="noStrike">
                <a:solidFill>
                  <a:srgbClr val="cc0000"/>
                </a:solidFill>
                <a:latin typeface="Andale Mono"/>
              </a:rPr>
              <a:t>$object-&gt;get_all_species</a:t>
            </a: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 ) {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    </a:t>
            </a: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$panel-&gt;add_row( $_ 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return 1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84360" y="4508640"/>
            <a:ext cx="6408720" cy="1770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object is very simple as it doesn’t have “ensembl object” attached, as we can get everything we need from the species_defs call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olumns in the spreadsheet have keys “species”, “common”, “gp” and “version”. The additional hash element “link” is used code refer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dale Mono"/>
              </a:rPr>
              <a:t>'format' =&gt; sub { return sprintf( qq(&lt;a href="%s"&gt;&lt;i&gt;%s&lt;/i&gt;&lt;/a&gt;), $_[1]{'link'}, $_[0] )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ode reference, reformats the “species” column to be wrapped in an web-link. For the code reference </a:t>
            </a:r>
            <a:r>
              <a:rPr b="0" lang="en-GB" sz="1000" spc="-1" strike="noStrike">
                <a:solidFill>
                  <a:srgbClr val="000000"/>
                </a:solidFill>
                <a:latin typeface="Andale Mono"/>
              </a:rPr>
              <a:t>$_[0]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the appropriate element of the row (in this case </a:t>
            </a:r>
            <a:r>
              <a:rPr b="0" lang="en-GB" sz="1000" spc="-1" strike="noStrike">
                <a:solidFill>
                  <a:srgbClr val="000000"/>
                </a:solidFill>
                <a:latin typeface="Andale Mono"/>
              </a:rPr>
              <a:t>$row{‘species’}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lang="en-GB" sz="1000" spc="-1" strike="noStrike">
                <a:solidFill>
                  <a:srgbClr val="000000"/>
                </a:solidFill>
                <a:latin typeface="Andale Mono"/>
              </a:rPr>
              <a:t>$_[1]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the whole 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ample Factory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7993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package EnsEMBL::Web::Factory::Serv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use stric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use warnings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no warnings "uninitialized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use EnsEMBL::Web::Factory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use EnsEMBL::Web::ProxyObjec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our @ISA = qw(EnsEMBL::Web::Factory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sub createObjects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my $self = shif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cc0000"/>
                </a:solidFill>
                <a:latin typeface="Andale Mono"/>
              </a:rPr>
              <a:t>  </a:t>
            </a:r>
            <a:r>
              <a:rPr b="1" lang="en-GB" sz="1000" spc="-1" strike="noStrike">
                <a:solidFill>
                  <a:srgbClr val="cc0000"/>
                </a:solidFill>
                <a:latin typeface="Andale Mono"/>
              </a:rPr>
              <a:t>return $self-&gt;problem( ‘fatal’, ‘Database error’, ‘Could not connect to core database.’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cc0000"/>
                </a:solidFill>
                <a:latin typeface="Andale Mono"/>
              </a:rPr>
              <a:t>    </a:t>
            </a:r>
            <a:r>
              <a:rPr b="1" lang="en-GB" sz="1000" spc="-1" strike="noStrike">
                <a:solidFill>
                  <a:srgbClr val="cc0000"/>
                </a:solidFill>
                <a:latin typeface="Andale Mono"/>
              </a:rPr>
              <a:t>unless </a:t>
            </a:r>
            <a:r>
              <a:rPr b="1" lang="en-US" sz="1000" spc="-1" strike="noStrike">
                <a:solidFill>
                  <a:srgbClr val="cc0000"/>
                </a:solidFill>
                <a:latin typeface="Andale Mono"/>
              </a:rPr>
              <a:t>$self-&gt;database(‘core’)</a:t>
            </a:r>
            <a:r>
              <a:rPr b="1" lang="en-GB" sz="1000" spc="-1" strike="noStrike">
                <a:solidFill>
                  <a:srgbClr val="cc0000"/>
                </a:solidFill>
                <a:latin typeface="Andale Mono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$self-&gt;DataObjects( EnsEMBL::Web::Proxy-&gt;new( ‘Server’, ’’, $self-&gt;DBConnection, $self-&gt;Input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48360" y="1344600"/>
            <a:ext cx="3887640" cy="702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if( </a:t>
            </a:r>
            <a:r>
              <a:rPr b="1" lang="en-GB" sz="800" spc="-1" strike="noStrike">
                <a:solidFill>
                  <a:srgbClr val="000000"/>
                </a:solidFill>
                <a:latin typeface="Andale Mono"/>
              </a:rPr>
              <a:t>$webpage-&gt;has_a_problem</a:t>
            </a: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 ) {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1" lang="en-GB" sz="800" spc="-1" strike="noStrike">
                <a:solidFill>
                  <a:srgbClr val="cc0000"/>
                </a:solidFill>
                <a:latin typeface="Andale Mono"/>
              </a:rPr>
              <a:t>$webpage-&gt;render_error_pag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} else {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ndale Mono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84360" y="4508640"/>
            <a:ext cx="6408720" cy="1014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factory is very simple as it doesn’t have to create any Ensembl objects, usually the second parameter to Proxy is the “Bio::EnsEMBL”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oblem object is created to propogate errors back to the web-brow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546200" y="1484280"/>
            <a:ext cx="6913440" cy="51847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w status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16360" y="2708280"/>
            <a:ext cx="5329080" cy="78228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cc0000"/>
                </a:solidFill>
                <a:latin typeface="Arial"/>
              </a:rPr>
              <a:t>This is the rendered problem object created by the Factory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7921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xtending th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nsembl Website –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art 2: Plugin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 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5@sanger.ac.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embl Web Team Project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46200" y="1484280"/>
            <a:ext cx="6913440" cy="51847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20360" y="2708280"/>
            <a:ext cx="26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Information style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50520" y="4869000"/>
            <a:ext cx="27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Spreadsheet style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ugins –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7993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have implemented plugins for four main reas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s our lives easier maintaining a number of different Ensembl sites within the web-team… www, dev, pre, archive, vega, personal development environments and the “public” mirror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make those who create there own local Ensembl installations lives easier – as the can create a personalised “configuration” file which they can copy into any new installation, and it should just wor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make those who extend their local installation of Ensembl lives easier – as any “additional” code is stored in their own Plugin sp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allow for “external” groups to develop features in Ensembl, which can be incorporated into anyones “Ensembl” mirror without being merged into the main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ugins – using to configure 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7993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implest use of plugins is to store “local” overrides for the configu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: edit the conf/Plugins.pm file to specify where and in what name space your plugin is stor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## To get standalone scripts to run from anywhere – hard code your server-root here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$SiteDefs::ENSEMBL_SERVERROOT = ‘/my_ensembl_install/xtreme'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$SiteDefs::ENSEMBL_PLUGINS = [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## 'MyModule::NameSpace' =&gt; 'Directory/root/of/plugin/directory'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'EnsEMBL::MyMirror'    =&gt; $SiteDefs::ENSEMBL_SERVERROOT.'/mymirror/'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: create your plugin directory and the conf directory within it, in this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my_ensembl_install/xtreme/mymirror/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my_ensembl_install/xtreme/mymirror/conf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: create your own SiteDefs.pm, DEFAULTS.ini and any other species “.ini”  files in this directory to over-ride the standard sett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ugins – SiteDefs.p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7993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package EnsEMBL::MyMirror::SiteDef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use stric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## update_conf function called by main SiteDefs.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sub update_conf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$SiteDefs::ENSEMBL_PORT                   = 8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$SiteDefs::ENSEMBL_USER                   = ‘my_ensembl_user'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$SiteDefs::ENSEMBL_GROUP                  = ‘my_ensembl_group'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$SiteDefs::ENSEMBL_SERVERADMIN            = ‘me@my_ensembl.mydomain.org'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$SiteDefs::ENSEMBL_SERVERNAME             = 'my_ensembl.mydomain.org'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$SiteDefs::ENSEMBL_MAIL_ERRORS           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$SiteDefs::ENSEMBL_ERRORS_TO              = ‘me@mydomain.org’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$SiteDefs::ENSEMBL_DEBUG_FLAGS            = 24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$SiteDefs::ENSEMBL_USERDB_NAME            = 'ensembl_web_user_db'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$SiteDefs::ENSEMBL_USERDB_HOST            = 'my_mysql.mydomain.org'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$SiteDefs::ENSEMBL_USERDB_PORT            =  3306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$SiteDefs::ENSEMBL_USERDB_USER            = ‘my_mysql_user'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$SiteDefs::ENSEMBL_USERDB_PASS            = ‘my_mysql_pass'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$SiteDefs::ENSEMBL_LONGPROCESS_MINTIME    = 2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ugins – DEFAULTS.i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7993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[general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ENSEMBL_HOST       = my_mysql.mydomain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ENSEMBL_HOST_PORT  = 33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ENSEMBL_WRITE_USER = my_mysql_u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ENSEMBL_WRITE_PASS = my_mysql_pa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ENSEMBL_DBUSER     = my_mysql_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ENSEMBL_DBPASS     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ENSEMBL_BINARIES_PATH   = /usr/local/bin             ; Dott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ENSEMBL_EMBOSS_PATH     = /usr/local/emboss          ; Align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ENSEMBL_WISE2_PATH      = /usr/local/wise2           ; Align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ENSEMBL_BLAST_BIN_PATH  = /data/bin/wu_blast         ; Blast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ENSEMBL_REPEATMASKER    = /data/bin/RepeatMasker     ; Blast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ENSEMBL_BLAST_FILTER    = /data/bin/wu_blast/filter  ; Blast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ENSEMBL_BLAST_MATRIX    = /data/bin/wu_blast/matrix  ; Blast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ENSEMBL_BLAST_DATA_PATH = /data/blastdb/ensembl      ; Blast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ENSEMBL_SEARCH          = text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etc 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ugins – using to configure 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7993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 we use a “standard” Sanger plugin, plus local “development” plug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## To get standalone scripts to run from anywhere – hard code your server-root here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$SiteDefs::ENSEMBL_SERVERROOT = ‘/my_ensembl_install/xtreme'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$SiteDefs::ENSEMBL_PLUGINS = [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## 'MyModule::NameSpace' =&gt; 'Directory/root/of/plugin/directory'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'EnsEMBL::MyMirror_js5' =&gt; $SiteDefs::ENSEMBL_SERVERROOT.'/mymirror_js5/'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'EnsEMBL::MyMirror'     =&gt; $SiteDefs::ENSEMBL_SERVERROOT.'/mymirror/'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extra “plugin” conf contains just the following SiteDefs.pm fi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package EnsEMBL::Sanger_js5::SiteDefs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sub update_conf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$SiteDefs::ENSEMBL_PORT                   = 4108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$SiteDefs::ENSEMBL_USER                   = 'js5'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$SiteDefs::ENSEMBL_SERVERADMIN            = 'js5@mydomain.org'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$SiteDefs::ENSEMBL_SERVERNAME             = ‘my_ensembl.mydomain.org'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$SiteDefs::ENSEMBL_ERRORS_TO              = 'js5@mydomain.org'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$SiteDefs::ENSEMBL_DEBUG_FLAGS            = 24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$SiteDefs::ENSEMBL_LONGPROCESS_MINTIME    = 5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7921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xtending th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nsembl Website –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art 3: Extending the scrip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 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5@sanger.ac.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embl Web Team Project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tending this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7993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nt to add a “development” plugin which displays the Apache webserver environment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additional Configuration::Server module to add new pa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additional to Object::Server module to collect “environment inform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additional Component to configure the additional pa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ired to update Plugins.pm in conf directory to include mod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tionally the plugin will add a “rudimentary” sitemap for the static content to the top pan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ugins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7993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ndale Mono"/>
              </a:rPr>
              <a:t>## To get plugins to work with standalone scri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ndale Mono"/>
              </a:rPr>
              <a:t>## you need to specify the server root her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$SiteDefs::ENSEMBL_SERVERROOT = '/ensemblweb/js5/wwwdev/xtreme'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ndale Mono"/>
              </a:rPr>
              <a:t>## Add our module, Key is namespace, Value is directory containing plu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$SiteDefs::ENSEMBL_PLUGINS = [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'EnsEMBL::Sanger‘      =&gt; $ENSEMBL_SERVERROOT.'/sanger-plugins/sanger'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'EnsEMBL::Sanger_js5‘  =&gt; $ENSEMBL_SERVERROOT.'/sanger-plugins/js5'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1" lang="en-US" sz="1200" spc="-1" strike="noStrike">
                <a:solidFill>
                  <a:srgbClr val="cc0000"/>
                </a:solidFill>
                <a:latin typeface="Andale Mono"/>
              </a:rPr>
              <a:t>'EnsEMBL::Development‘ =&gt; $ENSEMBL_SERVERROOT.'/public-plugins/development'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ndale Mono"/>
              </a:rPr>
              <a:t>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ugin Configuration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7993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package EnsEMBL::Development::Configuration::Serv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use stric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use EnsEMBL::Web::Configuratio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our @ISA = qw( EnsEMBL::Web::Configuratio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use EnsEMBL::Web::Document::Panel::SpreadShe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sub status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my $self = shif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if( </a:t>
            </a:r>
            <a:r>
              <a:rPr b="1" lang="en-US" sz="1200" spc="-1" strike="noStrike">
                <a:solidFill>
                  <a:srgbClr val="cc0000"/>
                </a:solidFill>
                <a:latin typeface="Andale Mono"/>
              </a:rPr>
              <a:t>my $panel2 = $sefl-&gt;new_panel( 'SpreadSheet'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ndale Mono"/>
              </a:rPr>
              <a:t>    </a:t>
            </a:r>
            <a:r>
              <a:rPr b="1" lang="en-US" sz="1200" spc="-1" strike="noStrike">
                <a:solidFill>
                  <a:srgbClr val="cc0000"/>
                </a:solidFill>
                <a:latin typeface="Andale Mono"/>
              </a:rPr>
              <a:t>'code‘    =&gt; 'environment'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ndale Mono"/>
              </a:rPr>
              <a:t>    </a:t>
            </a:r>
            <a:r>
              <a:rPr b="1" lang="en-US" sz="1200" spc="-1" strike="noStrike">
                <a:solidFill>
                  <a:srgbClr val="cc0000"/>
                </a:solidFill>
                <a:latin typeface="Andale Mono"/>
              </a:rPr>
              <a:t>'caption‘ =&gt; 'Apache environment'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ndale Mono"/>
              </a:rPr>
              <a:t>    </a:t>
            </a:r>
            <a:r>
              <a:rPr b="1" lang="en-US" sz="1200" spc="-1" strike="noStrike">
                <a:solidFill>
                  <a:srgbClr val="cc0000"/>
                </a:solidFill>
                <a:latin typeface="Andale Mono"/>
              </a:rPr>
              <a:t>'object‘  =&gt; $self-&gt;{object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ndale Mono"/>
              </a:rPr>
              <a:t>    ‘</a:t>
            </a:r>
            <a:r>
              <a:rPr b="1" lang="en-US" sz="1200" spc="-1" strike="noStrike">
                <a:solidFill>
                  <a:srgbClr val="cc0000"/>
                </a:solidFill>
                <a:latin typeface="Andale Mono"/>
              </a:rPr>
              <a:t>status’  =&gt; ‘panel_apache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ndale Mono"/>
              </a:rPr>
              <a:t>  </a:t>
            </a:r>
            <a:r>
              <a:rPr b="1" lang="en-US" sz="1200" spc="-1" strike="noStrike">
                <a:solidFill>
                  <a:srgbClr val="cc0000"/>
                </a:solidFill>
                <a:latin typeface="Andale Mono"/>
              </a:rPr>
              <a:t>) 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cc0000"/>
                </a:solidFill>
                <a:latin typeface="Andale Mono"/>
              </a:rPr>
              <a:t>    </a:t>
            </a:r>
            <a:r>
              <a:rPr b="1" lang="en-GB" sz="1200" spc="-1" strike="noStrike">
                <a:solidFill>
                  <a:srgbClr val="cc0000"/>
                </a:solidFill>
                <a:latin typeface="Andale Mono"/>
              </a:rPr>
              <a:t>$panel2-&gt;add_components(qw(apache EnsEMBL::Development::Component::Server::spreadsheet_Apach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ndale Mono"/>
              </a:rPr>
              <a:t>    </a:t>
            </a:r>
            <a:r>
              <a:rPr b="1" lang="en-US" sz="1200" spc="-1" strike="noStrike">
                <a:solidFill>
                  <a:srgbClr val="cc0000"/>
                </a:solidFill>
                <a:latin typeface="Andale Mono"/>
              </a:rPr>
              <a:t>$content-&gt;add_panel_last( $panel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ndale Mono"/>
              </a:rPr>
              <a:t>if( my $panel_ref = $self-&gt;panel( 'info' ) 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ndale Mono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ndale Mono"/>
              </a:rPr>
              <a:t>$panel_ref-&gt;add_component_last(qw(tree EnsEMBL::Development::Component::Server::static_tre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ndale Mono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le Mono"/>
              </a:rPr>
              <a:t>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ugin Script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7993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package EnsEMBL::Development::ScriptConfig::status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use stric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ndale Mono"/>
              </a:rPr>
              <a:t>sub init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1" lang="en-GB" sz="1000" spc="-1" strike="noStrike">
                <a:solidFill>
                  <a:srgbClr val="cc0000"/>
                </a:solidFill>
                <a:latin typeface="Andale Mono"/>
              </a:rPr>
              <a:t>$_[0]-&gt;_set_defaults(qw(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cc0000"/>
                </a:solidFill>
                <a:latin typeface="Andale Mono"/>
              </a:rPr>
              <a:t>    </a:t>
            </a:r>
            <a:r>
              <a:rPr b="1" lang="en-GB" sz="1000" spc="-1" strike="noStrike">
                <a:solidFill>
                  <a:srgbClr val="cc0000"/>
                </a:solidFill>
                <a:latin typeface="Andale Mono"/>
              </a:rPr>
              <a:t>panel_apache 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cc0000"/>
                </a:solidFill>
                <a:latin typeface="Andale Mono"/>
              </a:rPr>
              <a:t>  </a:t>
            </a:r>
            <a:r>
              <a:rPr b="1" lang="en-GB" sz="1000" spc="-1" strike="noStrike">
                <a:solidFill>
                  <a:srgbClr val="cc0000"/>
                </a:solidFill>
                <a:latin typeface="Andale Mono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ndale Mono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662280" y="115920"/>
          <a:ext cx="5373720" cy="65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2280" y="115920"/>
                    <a:ext cx="537372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971640" y="1413000"/>
            <a:ext cx="2592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nt previews have been styled so that the output is rendered without a lot of the decoration and navigation of the webp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ugin Component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7993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package EnsEMBL::Development::Component::Server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use stric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ndale Mono"/>
              </a:rPr>
              <a:t>sub spreadsheet_Apache {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ndale Mono"/>
              </a:rPr>
              <a:t>  </a:t>
            </a:r>
            <a:r>
              <a:rPr b="1" lang="en-US" sz="800" spc="-1" strike="noStrike">
                <a:solidFill>
                  <a:srgbClr val="cc0000"/>
                </a:solidFill>
                <a:latin typeface="Andale Mono"/>
              </a:rPr>
              <a:t>my( $panel, $object ) = @_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ndale Mono"/>
              </a:rPr>
              <a:t>  </a:t>
            </a:r>
            <a:r>
              <a:rPr b="1" lang="en-US" sz="800" spc="-1" strike="noStrike">
                <a:solidFill>
                  <a:srgbClr val="cc0000"/>
                </a:solidFill>
                <a:latin typeface="Andale Mono"/>
              </a:rPr>
              <a:t>$panel-&gt;add_columns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ndale Mono"/>
              </a:rPr>
              <a:t>    </a:t>
            </a:r>
            <a:r>
              <a:rPr b="1" lang="en-US" sz="800" spc="-1" strike="noStrike">
                <a:solidFill>
                  <a:srgbClr val="cc0000"/>
                </a:solidFill>
                <a:latin typeface="Andale Mono"/>
              </a:rPr>
              <a:t>{ 'key' =&gt; 'key',    'align' =&gt; 'left', 'title' =&gt; 'Key' }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ndale Mono"/>
              </a:rPr>
              <a:t>    </a:t>
            </a:r>
            <a:r>
              <a:rPr b="1" lang="en-US" sz="800" spc="-1" strike="noStrike">
                <a:solidFill>
                  <a:srgbClr val="cc0000"/>
                </a:solidFill>
                <a:latin typeface="Andale Mono"/>
              </a:rPr>
              <a:t>{ 'key' =&gt; 'value',  'align' =&gt; 'left', 'title' =&gt; 'Value' }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ndale Mono"/>
              </a:rPr>
              <a:t>  </a:t>
            </a:r>
            <a:r>
              <a:rPr b="1" lang="en-US" sz="800" spc="-1" strike="noStrike">
                <a:solidFill>
                  <a:srgbClr val="cc0000"/>
                </a:solidFill>
                <a:latin typeface="Andale Mono"/>
              </a:rPr>
              <a:t>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ndale Mono"/>
              </a:rPr>
              <a:t>  </a:t>
            </a:r>
            <a:r>
              <a:rPr b="1" lang="en-US" sz="800" spc="-1" strike="noStrike">
                <a:solidFill>
                  <a:srgbClr val="cc0000"/>
                </a:solidFill>
                <a:latin typeface="Andale Mono"/>
              </a:rPr>
              <a:t>foreach (@{$object-&gt;get_environment}) {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ndale Mono"/>
              </a:rPr>
              <a:t>    </a:t>
            </a:r>
            <a:r>
              <a:rPr b="1" lang="en-US" sz="800" spc="-1" strike="noStrike">
                <a:solidFill>
                  <a:srgbClr val="cc0000"/>
                </a:solidFill>
                <a:latin typeface="Andale Mono"/>
              </a:rPr>
              <a:t>$panel-&gt;add_row( $_ 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ndale Mono"/>
              </a:rPr>
              <a:t>  </a:t>
            </a:r>
            <a:r>
              <a:rPr b="1" lang="en-US" sz="800" spc="-1" strike="noStrike">
                <a:solidFill>
                  <a:srgbClr val="cc0000"/>
                </a:solidFill>
                <a:latin typeface="Andale Mono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ndale Mono"/>
              </a:rPr>
              <a:t>  </a:t>
            </a:r>
            <a:r>
              <a:rPr b="1" lang="en-US" sz="800" spc="-1" strike="noStrike">
                <a:solidFill>
                  <a:srgbClr val="cc0000"/>
                </a:solidFill>
                <a:latin typeface="Andale Mono"/>
              </a:rPr>
              <a:t>return 1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ndale Mono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sub static_tree {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my($panel,$object) = @_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$panel-&gt;add_row( 'Document tree', _sub_tree( $object, '/', 0) 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return 1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sub _sub_tree {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my( $object, $K, $i ) = @_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my $HTML = qq(@{['&amp;nbsp;' x ($i*2)]}&lt;a href="$K"&gt;@{[$object-&gt;species_defs-&gt;ENSEMBL_BREADCRUMBS-&gt;{$K}[0]]}&lt;/a&gt;&lt;br /&gt;\n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foreach my $C (@{$object-&gt;species_defs-&gt;ENSEMBL_CHILDREN-&gt;{$K}||[]})  {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$HTML .= _sub_tree( $object, $C, $i+3 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return $HTML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ndale Mono"/>
              </a:rPr>
              <a:t>1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ugin Object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7993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package EnsEMBL::Development::Object::Serv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use stric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use warnings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no warnings "uninitialized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use EnsEMBL::Web::Objec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our @ISA = qw(EnsEMBL::Web::Objec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Andale Mono"/>
              </a:rPr>
              <a:t>sub get_environment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Andale Mono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Andale Mono"/>
              </a:rPr>
              <a:t>my $self = shif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Andale Mono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Andale Mono"/>
              </a:rPr>
              <a:t>return [ map { {'key'=&gt;$_,'value'=&gt;$ENV{$_}} } sort keys %ENV 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Andale Mono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dale Mono"/>
              </a:rPr>
              <a:t>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ditional “Development” pa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546200" y="1484280"/>
            <a:ext cx="6913440" cy="51847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916360" y="2832120"/>
            <a:ext cx="5472000" cy="371232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cc0000"/>
                </a:solidFill>
                <a:latin typeface="Arial"/>
              </a:rPr>
              <a:t>Extra “SpreadSheet” panel configured by</a:t>
            </a:r>
            <a:br>
              <a:rPr sz="1000"/>
            </a:br>
            <a:r>
              <a:rPr b="0" lang="en-GB" sz="1000" spc="-1" strike="noStrike">
                <a:solidFill>
                  <a:srgbClr val="cc0000"/>
                </a:solidFill>
                <a:latin typeface="Arial"/>
              </a:rPr>
              <a:t>by the plugin’s Coniguration module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546200" y="1484280"/>
            <a:ext cx="6913440" cy="51847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ditional “Development” pa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16360" y="5805360"/>
            <a:ext cx="5400720" cy="55080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cc0000"/>
                </a:solidFill>
                <a:latin typeface="Arial"/>
              </a:rPr>
              <a:t>Panel can be collapsed as we set up the </a:t>
            </a:r>
            <a:br>
              <a:rPr sz="1000"/>
            </a:br>
            <a:r>
              <a:rPr b="0" lang="en-GB" sz="1000" spc="-1" strike="noStrike">
                <a:solidFill>
                  <a:srgbClr val="cc0000"/>
                </a:solidFill>
                <a:latin typeface="Arial"/>
              </a:rPr>
              <a:t>additional status flag in the plugin’s</a:t>
            </a:r>
            <a:br>
              <a:rPr sz="1000"/>
            </a:br>
            <a:r>
              <a:rPr b="0" lang="en-GB" sz="1000" spc="-1" strike="noStrike">
                <a:solidFill>
                  <a:srgbClr val="cc0000"/>
                </a:solidFill>
                <a:latin typeface="Arial"/>
              </a:rPr>
              <a:t>ScriptConfig::status mo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ditional “Development” pa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546200" y="1484280"/>
            <a:ext cx="6913440" cy="51847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916360" y="3860640"/>
            <a:ext cx="5329080" cy="255492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cc0000"/>
                </a:solidFill>
                <a:latin typeface="Arial"/>
              </a:rPr>
              <a:t>Extra component in “Information” Panel added</a:t>
            </a:r>
            <a:br>
              <a:rPr sz="1000"/>
            </a:br>
            <a:r>
              <a:rPr b="0" lang="en-GB" sz="1000" spc="-1" strike="noStrike">
                <a:solidFill>
                  <a:srgbClr val="cc0000"/>
                </a:solidFill>
                <a:latin typeface="Arial"/>
              </a:rPr>
              <a:t>by the plugin’s Coniguration module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9640" y="1989000"/>
            <a:ext cx="2376720" cy="70920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cc0000"/>
                </a:solidFill>
                <a:latin typeface="Arial"/>
              </a:rPr>
              <a:t>Additional me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cc0000"/>
                </a:solidFill>
                <a:latin typeface="Arial"/>
              </a:rPr>
              <a:t>Item added 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cc0000"/>
                </a:solidFill>
                <a:latin typeface="Arial"/>
              </a:rPr>
              <a:t>Sanger plug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662280" y="115920"/>
          <a:ext cx="5373720" cy="65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2280" y="115920"/>
                    <a:ext cx="537372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1835280" y="2924280"/>
            <a:ext cx="194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Collapsed panels</a:t>
            </a:r>
            <a:br>
              <a:rPr sz="1600"/>
            </a:b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not displayed in</a:t>
            </a:r>
            <a:br>
              <a:rPr sz="1600"/>
            </a:b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print mo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35280" y="4221000"/>
            <a:ext cx="180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+/- boxes and navigation tools hid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92360" y="1341360"/>
            <a:ext cx="194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No navigation menu, help link, sear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32720" y="692280"/>
            <a:ext cx="216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Release information moved to top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design – no CSS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46200" y="1484280"/>
            <a:ext cx="6913440" cy="5184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012000" y="2133720"/>
            <a:ext cx="223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Viewing page with CSS disabled, this is the view a screen reader will s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g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42560" y="1550520"/>
            <a:ext cx="792180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if we wish to have two variants of the website, then we need to have two copies of the whole code – to allow for minor tweaks in a large number of modules. This mea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ever the “core” Ensembl webcode is updated, each variant has to work their modifications back into the main branch – risking missing changes and wasting development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redevelopment we are developing a plugin system, 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variant” has it’s own set of modules – a Plugin – outside the “core” webcode, which add to, replace or modify the action of the “core”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gins – changes requri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42560" y="1550520"/>
            <a:ext cx="792180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gins will allow u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dditional scrip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/modify panels within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to the code will be extensive (most will need re-writing) but relatively si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::W::Renderer: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{ObjectType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:HTML objects split into E::W::Component: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{ObjectType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or rendering) and E::W::Configuration: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{ObjectType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or configu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::W::DataFactory: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{ObjectType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y modules will be replaced by E::W::Factory: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{ObjectTyp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::W::Data: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{ObjectType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ules will be replaced by E::W::Object: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{ObjectType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7921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ding t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sembl Website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1: Writing a new scrip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mes Sm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s5@sanger.ac.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embl Web Team Project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9T15:38:00Z</dcterms:created>
  <dc:creator> </dc:creator>
  <dc:description/>
  <dc:language>en-US</dc:language>
  <cp:lastModifiedBy>James Smith</cp:lastModifiedBy>
  <dcterms:modified xsi:type="dcterms:W3CDTF">2005-07-26T11:10:59Z</dcterms:modified>
  <cp:revision>20</cp:revision>
  <dc:subject/>
  <dc:title>Slide 1</dc:title>
</cp:coreProperties>
</file>