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DE5-D25B-419F-ADF9-8EEA5198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4EF-234A-4181-B7B2-A896CB4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72A-9EC3-40F5-9E0E-7997D2EE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689-4650-4296-8CAF-83A8972C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61E-FDF7-41B1-9A5C-B6EF5ECE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D11-5337-4F3E-B690-06D7F8F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3E5-CD61-4A76-BF68-A910DBB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550-EFC7-4959-9F6E-597D03EC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826-6EEC-425C-8420-7AB0795B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54A-A360-44D9-8105-99168E2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B16-DDDB-4BB6-9E9B-C596610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AF6-F0C9-4B72-8C9F-0044133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5EB2A-9F7B-40D9-AFBC-06E3BF793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53ADB-9DDD-4D0C-89CA-CC2BF2E6A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kr2@sanger.ac.uk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del user man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i 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.ye@lumc.n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 inser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3EAE1-06A9-4D1F-ABE1-8B5E72E7D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large insertions.png"/>
          <p:cNvPicPr/>
          <p:nvPr/>
        </p:nvPicPr>
        <p:blipFill>
          <a:blip r:embed="rId1"/>
          <a:stretch/>
        </p:blipFill>
        <p:spPr>
          <a:xfrm>
            <a:off x="714240" y="2517840"/>
            <a:ext cx="8123400" cy="26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template sequence in deletions, inversions and tandem duplic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6B346-495D-48E1-A11B-67CEDF1FA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5"/>
          <p:cNvSpPr/>
          <p:nvPr/>
        </p:nvSpPr>
        <p:spPr>
          <a:xfrm>
            <a:off x="1303200" y="2678040"/>
            <a:ext cx="648360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7"/>
          <p:cNvSpPr/>
          <p:nvPr/>
        </p:nvSpPr>
        <p:spPr>
          <a:xfrm>
            <a:off x="1303200" y="4071960"/>
            <a:ext cx="648360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9"/>
          <p:cNvSpPr/>
          <p:nvPr/>
        </p:nvSpPr>
        <p:spPr>
          <a:xfrm>
            <a:off x="3929040" y="2678040"/>
            <a:ext cx="588960" cy="13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2"/>
          <p:cNvSpPr/>
          <p:nvPr/>
        </p:nvSpPr>
        <p:spPr>
          <a:xfrm flipH="1">
            <a:off x="5000760" y="2678040"/>
            <a:ext cx="588960" cy="13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13"/>
          <p:cNvSpPr/>
          <p:nvPr/>
        </p:nvSpPr>
        <p:spPr>
          <a:xfrm>
            <a:off x="3929040" y="2571840"/>
            <a:ext cx="1660680" cy="214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14"/>
          <p:cNvSpPr/>
          <p:nvPr/>
        </p:nvSpPr>
        <p:spPr>
          <a:xfrm>
            <a:off x="4465800" y="4017960"/>
            <a:ext cx="534960" cy="16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8107200" y="2465280"/>
            <a:ext cx="7509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7983360" y="3803760"/>
            <a:ext cx="12495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1411200" y="2465280"/>
            <a:ext cx="112392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5"/>
          <p:cNvGrpSpPr/>
          <p:nvPr/>
        </p:nvGrpSpPr>
        <p:grpSpPr>
          <a:xfrm>
            <a:off x="3928680" y="4340160"/>
            <a:ext cx="1502280" cy="1800"/>
            <a:chOff x="3928680" y="4340160"/>
            <a:chExt cx="1502280" cy="1800"/>
          </a:xfrm>
        </p:grpSpPr>
        <p:sp>
          <p:nvSpPr>
            <p:cNvPr id="121" name="Line 12"/>
            <p:cNvSpPr/>
            <p:nvPr/>
          </p:nvSpPr>
          <p:spPr>
            <a:xfrm flipH="1">
              <a:off x="3928680" y="4340160"/>
              <a:ext cx="536040" cy="1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5001120" y="4340160"/>
              <a:ext cx="4298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517640" y="4340160"/>
              <a:ext cx="42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4"/>
          <p:cNvGrpSpPr/>
          <p:nvPr/>
        </p:nvGrpSpPr>
        <p:grpSpPr>
          <a:xfrm>
            <a:off x="3392640" y="2946240"/>
            <a:ext cx="2627280" cy="3240"/>
            <a:chOff x="3392640" y="2946240"/>
            <a:chExt cx="2627280" cy="3240"/>
          </a:xfrm>
        </p:grpSpPr>
        <p:sp>
          <p:nvSpPr>
            <p:cNvPr id="125" name="Line 12"/>
            <p:cNvSpPr/>
            <p:nvPr/>
          </p:nvSpPr>
          <p:spPr>
            <a:xfrm flipH="1">
              <a:off x="3392640" y="2946240"/>
              <a:ext cx="535680" cy="32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5590080" y="2946240"/>
              <a:ext cx="4298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2"/>
          <p:cNvSpPr/>
          <p:nvPr/>
        </p:nvSpPr>
        <p:spPr>
          <a:xfrm>
            <a:off x="4518000" y="2946240"/>
            <a:ext cx="430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template sequence: deletion of 4 bases with 2 bases inse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2410920"/>
            <a:ext cx="91440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D 4     I 2     ChrID 3 BP 156978978    156978983       Supports 12     + 0     - 12    S1 13   SUM_MS 627      NumSupSamples 1 HCC1599a 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GGCTGACTTATAAATCCCTACAGATATGTGGTTACTTCTCTACTTTCCCTTTCTTTGGCTTGGGCAACTGCCA</a:t>
            </a:r>
            <a:r>
              <a:rPr b="1" lang="en-US" sz="800" spc="-1" strike="noStrike">
                <a:solidFill>
                  <a:srgbClr val="0000ff"/>
                </a:solidFill>
                <a:latin typeface="Courier New"/>
                <a:ea typeface="Courier New"/>
              </a:rPr>
              <a:t>CGT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ATGCACTGGAGCCATTCTTCTGCATTCTTCTCATCCTTGGCCTTAAAGACATAGGTTTTATTGT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ATAAATCCCTACAGATATGTGGTTACTTCTCTACTTTCCCTTTCTTTGC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TGTGGTTACTTCTCTACT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TCTACT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TCTTCTCATCC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GATATGTGGTTACTTCTCTACT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TCTTCTCATCCTTGGCC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TCTTCTCATCCTTGGCCT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ACTTCTCTACT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TCTTC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TCTTCTCATCCTTGGCCTTAAAGACATAGGTT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TACAGATATGTGGTTACTTCTCTACT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AATCCCTACAGATATGTGGTTACTTCTCTACT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TCTTCTCATCCTTGGCCTTAAAGACATAGGTT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CTTTCTTTGGCTTGGGCAACTGCCA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A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GATGCACTGGAGCCATTCTTCTGCATTCTTCTCATCCTTGGCCT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of Pindel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347840" y="142092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gnment BAM file generated by B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5548320" y="142092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gnment BAM file generated by other al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708360" y="33098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input with sample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9"/>
          <p:cNvCxnSpPr>
            <a:stCxn id="44" idx="2"/>
            <a:endCxn id="46" idx="0"/>
          </p:cNvCxnSpPr>
          <p:nvPr/>
        </p:nvCxnSpPr>
        <p:spPr>
          <a:xfrm>
            <a:off x="2526120" y="2066400"/>
            <a:ext cx="2072520" cy="1243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8" name="Straight Arrow Connector 11"/>
          <p:cNvCxnSpPr>
            <a:stCxn id="45" idx="2"/>
            <a:endCxn id="46" idx="0"/>
          </p:cNvCxnSpPr>
          <p:nvPr/>
        </p:nvCxnSpPr>
        <p:spPr>
          <a:xfrm flipH="1">
            <a:off x="4598280" y="2066400"/>
            <a:ext cx="2423160" cy="1243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9" name="TextBox 12"/>
          <p:cNvSpPr/>
          <p:nvPr/>
        </p:nvSpPr>
        <p:spPr>
          <a:xfrm>
            <a:off x="1390680" y="241776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m2pindel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aptor.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6130800" y="251136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 sam2pindel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3408480" y="4745160"/>
            <a:ext cx="23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ed Pindel input with sample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6"/>
          <p:cNvCxnSpPr>
            <a:stCxn id="46" idx="2"/>
            <a:endCxn id="51" idx="0"/>
          </p:cNvCxnSpPr>
          <p:nvPr/>
        </p:nvCxnSpPr>
        <p:spPr>
          <a:xfrm>
            <a:off x="4597920" y="3956040"/>
            <a:ext cx="1080" cy="789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3" name="TextBox 17"/>
          <p:cNvSpPr/>
          <p:nvPr/>
        </p:nvSpPr>
        <p:spPr>
          <a:xfrm>
            <a:off x="4599000" y="418932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3) FilterPindelReads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2284560" y="608796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ge Pindel input files for paired or population sequ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20"/>
          <p:cNvCxnSpPr>
            <a:stCxn id="51" idx="2"/>
            <a:endCxn id="54" idx="0"/>
          </p:cNvCxnSpPr>
          <p:nvPr/>
        </p:nvCxnSpPr>
        <p:spPr>
          <a:xfrm flipH="1">
            <a:off x="4598280" y="5391000"/>
            <a:ext cx="1080" cy="697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) bam2pindel.p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ten by Keiran Raine at Sanger Institute (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r2@sanger.ac.u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tool was designed for BWA based BAM/SAM Illumina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must prepare a name sorted bam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BAM_2_PINDEL_ADAP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env  BAM_2_PINDEL_ADAPT  &lt;path  to  Adaptor.pm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gumen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|input: Input BAM file (req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o|output: Output ready for pin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s|sample: Sample or label (sampA,sampB...) (req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pi|insert: Required if BAM file does not have PI tag in header RG rec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r|restrict: Restrict to chromosome 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/bam2pindel_bwa.pl –i NameSorted.bam –o output_prefix -s tumour –om –pi 300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2) sam2pindel.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600200"/>
            <a:ext cx="91440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by Kai Ye at Leiden University Medical Center (k.ye@lumc.n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ool was designed for all BAM/SAM Illumina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must first compile the cpp source 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++ sam2pindel.cpp –o sam2pindel –O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arguments are required by sam2pin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Input sam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Output for pind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insert siz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ta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number of extra lines (not start with @) in the beginning of the f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start with standard sam file (Input.sam with insert size 3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/sam2pind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Input.s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4Pindel.txt  3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mou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start with bam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/samtools view Input.bam | ./sam2pindel  -  Output4Pindel.txt  3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mou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Pin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3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Input: the reference genome sequences in fasta format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Input: the unmapped reads in a modified fastq format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Output fold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Which chr/frag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BreakDancer result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mat per line: ChrA LocA stringA ChrB LocB stringB oth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you don't have BreakDancer result, please provide an empty file he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ind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g19.f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_input_chr1.tx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_Fold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format of Pind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Content Placeholder 2"/>
          <p:cNvGrpSpPr/>
          <p:nvPr/>
        </p:nvGrpSpPr>
        <p:grpSpPr>
          <a:xfrm>
            <a:off x="171360" y="1487520"/>
            <a:ext cx="8826480" cy="2230560"/>
            <a:chOff x="171360" y="1487520"/>
            <a:chExt cx="8826480" cy="2230560"/>
          </a:xfrm>
        </p:grpSpPr>
        <p:pic>
          <p:nvPicPr>
            <p:cNvPr id="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71360" y="1487520"/>
              <a:ext cx="882648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85840" y="1600200"/>
              <a:ext cx="8594640" cy="20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@91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TGGGGACCGGTGGAATGCTTCCACTGGCTGGGGGGC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alibri"/>
                </a:rPr>
                <a:t>+       chr2      41149518      50 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Tum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2"/>
          <p:cNvSpPr/>
          <p:nvPr/>
        </p:nvSpPr>
        <p:spPr>
          <a:xfrm>
            <a:off x="1255680" y="5676840"/>
            <a:ext cx="601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83600" y="5578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592280" y="5578560"/>
            <a:ext cx="112392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2698920" y="5787720"/>
            <a:ext cx="0" cy="3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 flipH="1">
            <a:off x="2376360" y="6219720"/>
            <a:ext cx="4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4739760" y="4940280"/>
            <a:ext cx="1125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85840" y="396252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rand, chr, 3’ coordinate and mapping quality of the mapped reads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ta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1"/>
          <p:cNvCxnSpPr/>
          <p:nvPr/>
        </p:nvCxnSpPr>
        <p:spPr>
          <a:xfrm flipH="1">
            <a:off x="3104280" y="3363480"/>
            <a:ext cx="2520" cy="599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E353E-1319-4B42-932E-A2D69386468E}" type="datetime3">
              <a:rPr b="0" lang="en-GB" sz="1200" spc="-1" strike="noStrike">
                <a:solidFill>
                  <a:srgbClr val="898989"/>
                </a:solidFill>
                <a:latin typeface="Calibri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CC8E1-E293-42CA-B05B-F61EEFE86B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ormat: dele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tangle 4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156960" cy="355932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468360" y="1308240"/>
            <a:ext cx="770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68360" y="2206800"/>
            <a:ext cx="770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900000" y="2131920"/>
            <a:ext cx="1440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836720" y="1233360"/>
            <a:ext cx="1440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4932360" y="1233360"/>
            <a:ext cx="1441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H="1">
            <a:off x="3997080" y="22813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4654440" y="1308240"/>
            <a:ext cx="998640" cy="89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653080" y="1308240"/>
            <a:ext cx="998640" cy="89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 flipH="1">
            <a:off x="6660720" y="2281320"/>
            <a:ext cx="792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/>
          <p:cNvSpPr/>
          <p:nvPr/>
        </p:nvSpPr>
        <p:spPr>
          <a:xfrm rot="16200000">
            <a:off x="5522040" y="1516320"/>
            <a:ext cx="261720" cy="2016000"/>
          </a:xfrm>
          <a:custGeom>
            <a:avLst/>
            <a:gdLst>
              <a:gd name="textAreaLeft" fmla="*/ 167400 w 261720"/>
              <a:gd name="textAreaRight" fmla="*/ 261720 w 261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4645080" y="27320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1base - 1millio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low mismatches to accommodate sequence errors and SN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2040" y="2356920"/>
            <a:ext cx="8429760" cy="31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D 10    ChrID 13        BP 32913041     32913052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AATCAACTAGTGACCTTCCAGGGACAACCCGAACGTGATGAAAAGATCAaagaacctacTCT</a:t>
            </a:r>
            <a:r>
              <a:rPr b="1" lang="en-US" sz="8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CAAAG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CA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AA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CAAA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AGTGACCTTCCAGGGACAA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CTTCCAGGGACAA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A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A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C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TCCAGGGACAA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GGACAA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ACCC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AACGTGATGAAAAGATCA          TCT</a:t>
            </a:r>
            <a:r>
              <a:rPr b="1" lang="en-US" sz="8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TGGGTTTTCATACAGCTAGCGGGAAAAAAGTTAAAATTGCAAAGGAATCTTT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2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3A194-770A-4C0E-A05A-1992E903F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1C7B3-DB64-4705-A173-040CD53A3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6"/>
          <p:cNvSpPr/>
          <p:nvPr/>
        </p:nvSpPr>
        <p:spPr>
          <a:xfrm>
            <a:off x="660240" y="2786040"/>
            <a:ext cx="723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sosceles Triangle 7"/>
          <p:cNvSpPr/>
          <p:nvPr/>
        </p:nvSpPr>
        <p:spPr>
          <a:xfrm rot="16200000">
            <a:off x="5295960" y="1741320"/>
            <a:ext cx="428400" cy="2089080"/>
          </a:xfrm>
          <a:prstGeom prst="triangle">
            <a:avLst>
              <a:gd name="adj" fmla="val 50000"/>
            </a:avLst>
          </a:prstGeom>
          <a:solidFill>
            <a:srgbClr val="119df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197000" y="2465280"/>
            <a:ext cx="112392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H="1">
            <a:off x="3927240" y="3160800"/>
            <a:ext cx="1127160" cy="32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8055000" y="2625840"/>
            <a:ext cx="108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197000" y="4498920"/>
            <a:ext cx="112392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3928680" y="5197320"/>
            <a:ext cx="536760" cy="18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6070680" y="4500720"/>
            <a:ext cx="4302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660240" y="4605120"/>
            <a:ext cx="8197920" cy="431640"/>
            <a:chOff x="660240" y="4605120"/>
            <a:chExt cx="8197920" cy="431640"/>
          </a:xfrm>
        </p:grpSpPr>
        <p:sp>
          <p:nvSpPr>
            <p:cNvPr id="103" name="Straight Connector 12"/>
            <p:cNvSpPr/>
            <p:nvPr/>
          </p:nvSpPr>
          <p:spPr>
            <a:xfrm>
              <a:off x="660240" y="4819680"/>
              <a:ext cx="7233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13"/>
            <p:cNvSpPr/>
            <p:nvPr/>
          </p:nvSpPr>
          <p:spPr>
            <a:xfrm flipH="1" rot="5400000">
              <a:off x="5294520" y="3774600"/>
              <a:ext cx="428760" cy="2089440"/>
            </a:xfrm>
            <a:prstGeom prst="triangle">
              <a:avLst>
                <a:gd name="adj" fmla="val 50000"/>
              </a:avLst>
            </a:prstGeom>
            <a:solidFill>
              <a:srgbClr val="119df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7"/>
            <p:cNvSpPr/>
            <p:nvPr/>
          </p:nvSpPr>
          <p:spPr>
            <a:xfrm>
              <a:off x="8108280" y="4607640"/>
              <a:ext cx="749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7:50:49Z</dcterms:created>
  <dc:creator>Kai Ye</dc:creator>
  <dc:description/>
  <dc:language>en-US</dc:language>
  <cp:lastModifiedBy>Kai Ye</cp:lastModifiedBy>
  <dcterms:modified xsi:type="dcterms:W3CDTF">2010-10-11T09:14:56Z</dcterms:modified>
  <cp:revision>56</cp:revision>
  <dc:subject/>
  <dc:title>Slide 1</dc:title>
</cp:coreProperties>
</file>